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426-876D-4C28-A5D7-EB8AEBF9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A87-2DFB-41AE-8307-516EC14E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59-C3E4-4E06-BF01-D516E50E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F0F-4C91-4B9E-8854-FF5BDF9C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E25-B4E2-4CEE-B149-F510B2B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56E-AFDE-45ED-BC49-5EFBC63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7F3-1398-4A79-8DA7-BB8FD56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26A-0A3C-473F-80A0-416B7C0C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512-2DAB-4B4D-B2BC-9D98DFD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50E-D49C-4ECB-9AD6-F520E38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130-83D9-4347-A7D7-859B0E09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347-529B-4FBE-B3EE-E29E28B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68E-41BA-4245-BB6D-37AEA9EAD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58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ès en Résolution de Struct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 Diffractométrie de Poud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9520" y="2209680"/>
            <a:ext cx="52448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rmel Le B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versité du Maine – CNRS UMR 6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boratoires des Oxydes et Fluor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b@crista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32280"/>
            <a:ext cx="1420920" cy="202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5349960"/>
            <a:ext cx="1143000" cy="150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90920" y="6149880"/>
            <a:ext cx="1554120" cy="7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114800" y="5589720"/>
            <a:ext cx="1189080" cy="12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334120" y="5935680"/>
            <a:ext cx="199368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80280" y="6235560"/>
            <a:ext cx="1863720" cy="6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2000" y="4114800"/>
            <a:ext cx="44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Les Rencontres LLB -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Diffraction de pou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2-3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auvaise nouvelle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ans le domaine de l’inde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59092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obin Shirley nous a quitté e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 suite logicielle d’indexation CRYSFIR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a-t-elle un repreneu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3320" y="1219320"/>
            <a:ext cx="9040680" cy="4883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0"/>
            <a:ext cx="84582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rnière publica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Renewed interest in powder diffraction data indexing »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Bergmann, A. Le Bail, R. Shirley and V. Zlokazov, Z. Kristallogr. 219 (2004) 783-7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172200"/>
            <a:ext cx="78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se limiter à un seul logiciel d’indexation…</a:t>
            </a:r>
            <a:br>
              <a:rPr sz="2400"/>
            </a:b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http://sdpd.univ-lemans.fr/uppw/benchmarks/colo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endance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52480"/>
            <a:ext cx="746748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roches Monte Carlo ou algorithme génétique appliquées au diagramme de poudre brut (non pas aux simples positions de pics mais aux positions + intensités) ou reconstitu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logiciel précurseur (algorithme génétiqu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a jamais été disponible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J. Synchrotron Radi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1999) 87-9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TOPAS (SVD-Index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cMaille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wder Diffrac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2004) 249-2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0840" y="228600"/>
            <a:ext cx="778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066680"/>
            <a:ext cx="69339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- Méthodes classiques amélio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s Directes, Patt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- Méthodes « nouvelles » dans l’espace di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viennent clas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- Méthodes ré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rge flipp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- Approche mono ou multi dia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se rapprocher du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- Prédiction de structures cristal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ein boum… partielle ou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8380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1 Méthodes directes / Patt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2689200"/>
            <a:ext cx="6496200" cy="416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8380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EXPO2005,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roupe Giacova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7 décompositions par Monte Carlo (partition au hasard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 tentatives d’attributions de pha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540 t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429000"/>
            <a:ext cx="1828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s chances de succè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des écarts de 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résoudre des problèmes d’autant plus complexes qu’une partie ou même tout le motif structural est connu - molécule(s), polyèdre(s)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8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2 Méthodes dans l’espace dir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0400" cy="429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248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embarras du choix ? Open Access : </a:t>
            </a:r>
            <a:r>
              <a:rPr b="1" lang="fr-FR" sz="32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, PSSP, ESP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04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3 Méthodes Nouvelles 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4405320" cy="216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5715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ce qui s’applique aux monocristaux est un jour ou l’autre testé sur les poudres, si possible… Attend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sz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yi &amp; Sü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193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Iterated Projections, Principle of minimum charge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5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489 (1999)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201 (2003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eit 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4 Résolution à partir d’un seul diagramme ou de plusieur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80769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ndance actuel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rocher les données de poudre des données sur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oitation maximale de tout ce qui peut réduire ou modifier le chevauchement des réflexion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ur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ffets de dilatation thermique anisotrop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bstitution isotopique (neutron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ersion anomal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binaison X/neutr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’est de la grosse artillerie, à utiliser si nécess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a Prédiction 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14300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grès réalisés sont sensibles dans 3 publications, résultats de ‘blind tests’ de prédiction de structures organiques :</a:t>
            </a:r>
            <a:br>
              <a:rPr sz="24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 Lommers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6 (2000) 697-714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Motherwell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8  (2002) 647-661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Day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61 (2005) 511-52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83059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logiciels de prédiction proposent des centaines de modèles d’empilement de molécules, classés par énerg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des phases inconnu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on-indexé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e choix final se fait par comparaison des diagrammes de poudre théoriques avec le diagramme observ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partielle (sans maille mais avec contenu con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ouveau critère de similarité pour compara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6668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New similarity index for crystal structure determination from X-ray powder diagrams, »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.W.M. Hofmann and L. Kuleshova,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J. Appl. Cryst. 38 (2005) 861-8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57600" y="812880"/>
            <a:ext cx="4667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25720" y="272880"/>
            <a:ext cx="68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- Progrès en identification d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 Progrès en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- Hit parade des structures les plus complex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- Progrès en automatisation du processus com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« vraies » (?) raisons des progr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260280"/>
            <a:ext cx="63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b Prédiction in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447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s inorganiques : pas quelques centaines de modèles, produits mais des milliers ou bien plus encore dans certains ca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971800"/>
            <a:ext cx="75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gt;1.000.000 de zéolithes hypothétiques pour ~150 connues !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ster et al., J. Appl. Cryst. 38 (2005) 1028-1030.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 pas réalisé : plusieurs modèles par zé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26708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tte fois des bases de données s’impo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D. Foster &amp; M.M.J. Treacy - Hypothetical Zeolites Database -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hypotheticalzeolite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20920" y="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crystallography.net/pco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66880"/>
            <a:ext cx="33526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s par le logiciel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GRINS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Appl. Cryst. 38 (2005) 389-3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total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maille et d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I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général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mitation aux réseau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D N-connec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7760" y="574560"/>
            <a:ext cx="5826240" cy="628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000" y="1197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e base 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C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xemple parmi les &gt; 1000 titanosilicates dans PCOD, 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dites par GRIN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867280"/>
            <a:ext cx="845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si mal si on considère que K et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ne sont pas pris en compte dans la prédiction du modè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959280" cy="274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970440" cy="2690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1066680"/>
            <a:ext cx="8458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èle PCOD2200207 (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2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7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83059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nu comme K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136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08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41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Eur. J. Solid State Inorg. Chem. 34, 1997, 381-3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838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éthodes de solution (notamment dans l’espace direct) sont si efficaces qu’on se demand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 prédire ? Surtout si la maille est conn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514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aison est que de nombreux cas ne sont pas résolus du fait de leur complexité ou de leur mauvaise cristallinité empêchant une index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26708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nouvelles méthodes chassent les anciennes, avec des bases de données de structures prédites, une détermination de structure se réduira à une identification suivie d’un affinement (ce n’est pas pour demain…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Bataill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J. Solid State Chem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140 (1998) 62-7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320" y="22860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s typique dont la solution pourrait venir par pré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4246560" cy="265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3440160" cy="12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4120" y="28195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029200" y="4648320"/>
            <a:ext cx="256212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191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002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exation incertaine, profils de raies élargis par effet de taille de grains et/ou de défau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pas mieux en synchrotron qu’en RX conventionnel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70028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propriétés physiques des composés prédits peuvent elles-mêmes être prédites, orientant les efforts de synthèse des chimistes vers des cibles préc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648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ls ne vont pas aimer du tout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qu’on leur dise quoi cherch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457200"/>
            <a:ext cx="883944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- Grands vainqueurs récents au hit parade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es déterminations de structures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es plus complex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iant structure solv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combined targeted chemistry and computational design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 structures cubiques publié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- 2004 - V ~380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7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68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925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005 - V ~702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89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74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Présentées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±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comme prédites – mais diagramme de poudre index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6019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Giant but not so bi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64320" cy="237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74372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5943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gew. Chem. Int. Ed. 43 (2004) 2-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29400" cy="532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per-tétraèdres assemblés en partage de sommets donnant des super-zéolithes (analogue MT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499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595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ience 309 (2005) 2040-20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066680"/>
            <a:ext cx="906768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ès :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Changement d’état graduel et continu qui consiste en une amélioration, un perfectionnement, ou un accroissement des connaissances. »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ctionnaire Hachet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1432080"/>
            <a:ext cx="5567400" cy="542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rocessus de prédiction identique, également analogue zéolithe MT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4572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galer ou surpasser ces « exploits »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71600"/>
            <a:ext cx="8458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I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la ou les molécules, la maille et le groupe d’espace sont connus, les méthodes dans l’espace direct ne nécessitent qu’environ 50 intensités par objet à localiser dans la maille par rotation et translation (6 degrés de liberté par objet), et ce, quel que soit le volume de la maille et sa symét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EUT-ET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partielle (sans maille, avec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totale (sans maille, sans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té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600200"/>
            <a:ext cx="876312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he first protein crystal structure determined from high-resolution X-ray powder diffraction data, a variant of T3R3 human insulin-zinc complex produced by grinding, »</a:t>
            </a:r>
            <a:br>
              <a:rPr sz="18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.B. Von Dreele, P.W. Stephens, G.D. Smith and R.H. Blessing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a Cryst. D56, 1549-1553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G : R3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81.278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 = 73.0389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 = 41786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30 atomes indépendants, 4893 paramètres affiné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gramme de poudre de 4800 points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981 restreintes stéréochimiqu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acteur chance : 100%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maille, avec cont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La « complexité » (au sens de la difficulté de résolution)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’est pas proportionnelle au volume de mail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5592600" cy="4821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867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« complexité » est une combinaison de deux facteurs : largeur de raies (FWHM) et nombre d’atomes indépendants (ou de molécu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stimation des volumes maxima à « complexité » constante en 1996, avant l’expansion des méthodes de solution dans l’espac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~ 1.5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205740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le d’affiner sans restreintes et/ou contraintes lorsque le nombre de données est à peine supérieur au nombre de paramètres de position, ou même inférieu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lo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ci entache forcément la crédibilité des résul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Gros problème au f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228600"/>
            <a:ext cx="53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- Progrès en automat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u processus com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371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ites logicielles intégrées les plus complè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28800"/>
            <a:ext cx="3581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cad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EXPO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contient que TREOR-N pour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est pas très bon en « direct space » (essayez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ni en Rietveld (mieux vaut passer à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ULLPRO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S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905120"/>
            <a:ext cx="2438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TOPAS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Bru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Material Studio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Accelr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791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si l’automatisme ne fonctionne pas ?…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mbauchez un cristallographe bien form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66688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WINPLOTR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POWDER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Les vraies raisons des prog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90720"/>
            <a:ext cx="86868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principales dans le désord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eurs d’algorithmes, de bases de donné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chrotrons de 3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énéra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té matériel informatique : Loi de Moore, jeux vidéo (!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ansion des mémoires et disques de stockag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équence des processeurs x40 depuis 1995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pendant cette fréquence plafon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ès à v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cesseurs multi-cœurs prennent le relai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parallèle chez Monsieur Toulemonde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lgorithmes de type Monte Carlo s’y prêtent parfaitement bie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indexation, solution en espace direct, prédi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133720"/>
            <a:ext cx="8686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ses en gar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novation logicielle à ne pas laisser entièrement sous contrôle de compagnies à but lucratif. L’héritage des logiciels du monde académique est encore large, mais se rétrécit devant la production commercial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non plus laisser les bases de données entièrement sous contrôle de centres internationaux qui se disent à but non lucratif mais détiennent un monopole de fait sur un produit d’accès pa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447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« progrès » sont-ils accessibles à tous ? 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3716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isissez une approche adaptée à votre problèm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radiation, méthode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le qui vous conduira au succès.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rédiction totale est l’approche la plus diffic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8840" y="228600"/>
            <a:ext cx="69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Quelques conseils supplément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4500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vous voulez publier dans Nature ou Scienc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ventez une « nouvelle » méthod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/ou dépassez largement 1.000.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ez le “hyper-giant”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1500 atomes indépendant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 seulement 1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752480"/>
            <a:ext cx="80773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DPD - Round Robin – Blind Test   </a:t>
            </a:r>
            <a:br>
              <a:rPr sz="32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tructure Determination by Powder Diffractometr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1998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sdpd.univ-lemans.fr/SDPDR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002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www.cristal.org/sdpdrr2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2006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Qui veut l’organis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1480" y="203040"/>
            <a:ext cx="80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ccroissement du nombre de déterminations </a:t>
            </a:r>
            <a:br>
              <a:rPr sz="3200"/>
            </a:b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ab initio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publi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392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694200" cy="467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istogramme cumul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04812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&gt; 10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957760" cy="431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260280"/>
            <a:ext cx="60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ution de liv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2894040" cy="43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019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us-discipline reconnue : c’est un progrè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21400" y="324000"/>
            <a:ext cx="67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- Progrès en identification d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0666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comparaison (search-match) entre diagramme observé et diagrammes de base de données (JCPDS-ICD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38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680" y="54100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I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505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721400" cy="63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380880"/>
            <a:ext cx="312444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ICDD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tat actu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(pub février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Organiques :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CSD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864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organiques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4005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ccroissement par inclusion du « Pauling Fil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A-2- Progrès à venir ou en c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09680"/>
            <a:ext cx="7925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de structure cristal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donc prédiction de diagrammes de pou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es 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de diagrammes de poudre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structures hypoth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- Progrès récent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1 – DICVOL04 remplace DICVOL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fin Louër et Boultif cèdent à la tendance générale de tolérance d’impureté et de considération de décalage de zéro…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5053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2 – « indexing benchmarks » en 2004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nouveau logiciel peut comparer ses performances à celles des logiciels concur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va sans dire que ce n’est pas forcément du goût de tous les auteurs de logiciel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15:40Z</dcterms:created>
  <dc:creator> Armel Le Bail</dc:creator>
  <dc:description/>
  <dc:language>en-US</dc:language>
  <cp:lastModifiedBy> Armel Le Bail</cp:lastModifiedBy>
  <dcterms:modified xsi:type="dcterms:W3CDTF">2006-03-07T10:32:28Z</dcterms:modified>
  <cp:revision>104</cp:revision>
  <dc:subject/>
  <dc:title>Présentation PowerPoint</dc:title>
</cp:coreProperties>
</file>