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5.png" ContentType="image/png"/>
  <Override PartName="/ppt/media/image46.png" ContentType="image/png"/>
  <Override PartName="/ppt/media/image6.wmf" ContentType="image/x-wmf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7.wmf" ContentType="image/x-wmf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642100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6500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62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440" y="36500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462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492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4760" y="11426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44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492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4760" y="365004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16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6500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51200"/>
            <a:ext cx="71625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14264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7924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1426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09680" y="6629040"/>
            <a:ext cx="6096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Lachlan M. D. Cranswick (lachlan.cranswick@nrc.gc.c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371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Slide </a:t>
            </a:r>
            <a:fld id="{E6817207-C67B-4BA1-93DB-D78AC29E34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54720"/>
            <a:ext cx="13716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047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880240"/>
            <a:ext cx="2666880" cy="977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home.att.net/~larry.finger/drawxtl/lgsiperov.gif" TargetMode="External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hyperlink" Target="http://home.att.net/~larry.finger/drawxtl/lgstish.gif" TargetMode="External"/><Relationship Id="rId5" Type="http://schemas.openxmlformats.org/officeDocument/2006/relationships/image" Target="../media/image53.png"/><Relationship Id="rId6" Type="http://schemas.openxmlformats.org/officeDocument/2006/relationships/hyperlink" Target="http://home.att.net/~larry.finger/drawxtl/lgsiperov.gif" TargetMode="External"/><Relationship Id="rId7" Type="http://schemas.openxmlformats.org/officeDocument/2006/relationships/hyperlink" Target="http://home.att.net/~larry.finger/drawxtl/lg2.gif" TargetMode="External"/><Relationship Id="rId8" Type="http://schemas.openxmlformats.org/officeDocument/2006/relationships/image" Target="../media/image54.png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2971800"/>
            <a:ext cx="868680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27160" y="1944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960" y="390600"/>
            <a:ext cx="783252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ree X-ray Diffraction software for handling at least some of the drudgery in powder diffraction analy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3200400"/>
            <a:ext cx="6858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.M.D. Cranswi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utron Program for Materials Research (NPMR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tional Research Council of Canada (NRC)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ding 459, Station 18, Chalk River Laboratorie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lk River, Ontario, Canada, K0J 1J0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-mail: lachlan.cranswick@nrc.gc.c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: http://neutron.nrc.gc.ca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cc"/>
                </a:solidFill>
                <a:latin typeface="Times New Roman"/>
              </a:rPr>
              <a:t>Variable Count Time data collection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Main idea here is to increase the raw intensity of selected peak areas to assist in the “required” analysis: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Up till now, if at all, mainly done for refinement (e.g., Hill and Madsen method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On point detector (e.g., Bragg Bretano flat plate system), do this by varying the count time in a pre-defined manner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(Can also provide more time effective counting tim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3505320"/>
            <a:ext cx="4496040" cy="2520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4267440" cy="2492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3048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imes New Roman"/>
              </a:rPr>
              <a:t>Fixed Count Tim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30481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Times New Roman"/>
              </a:rPr>
              <a:t>Variable Count Tim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716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cc"/>
                </a:solidFill>
                <a:latin typeface="Times New Roman"/>
              </a:rPr>
              <a:t>Variable Count Time application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1720" y="1523880"/>
            <a:ext cx="8610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Equally relevant to problems where you need to adequately profile fit small / trace peaks which might not be significantly above background in a “routine”, time effective fixed count time data collection - e.g.,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Powder Index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Unit Cell refin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Quantitative Rietvel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VCT to aid in profile fitting (1 of 3) </a:t>
            </a:r>
            <a:br>
              <a:rPr sz="3600"/>
            </a:br>
            <a:r>
              <a:rPr b="0" lang="en-AU" sz="3600" spc="-1" strike="noStrike">
                <a:solidFill>
                  <a:srgbClr val="ffffcc"/>
                </a:solidFill>
                <a:latin typeface="Times New Roman"/>
              </a:rPr>
              <a:t>Fixed Count Time</a:t>
            </a:r>
            <a:br>
              <a:rPr sz="3600"/>
            </a:b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VCT to aid in profile fitting (2 of 3) </a:t>
            </a:r>
            <a:br>
              <a:rPr sz="3600"/>
            </a:br>
            <a:r>
              <a:rPr b="0" lang="en-AU" sz="3600" spc="-1" strike="noStrike">
                <a:solidFill>
                  <a:srgbClr val="ffffcc"/>
                </a:solidFill>
                <a:latin typeface="Times New Roman"/>
              </a:rPr>
              <a:t>Variable Count Time</a:t>
            </a:r>
            <a:br>
              <a:rPr sz="3600"/>
            </a:b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14731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VCT to aid in profile fitting (3 of 3) </a:t>
            </a:r>
            <a:br>
              <a:rPr sz="3600"/>
            </a:br>
            <a:r>
              <a:rPr b="0" lang="en-AU" sz="3600" spc="-1" strike="noStrike">
                <a:solidFill>
                  <a:srgbClr val="ffffcc"/>
                </a:solidFill>
                <a:latin typeface="Times New Roman"/>
              </a:rPr>
              <a:t>Overlaying VCT and FCT</a:t>
            </a:r>
            <a:br>
              <a:rPr sz="3600"/>
            </a:b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154944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716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ere is VCT Data Collec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1720" y="1523880"/>
            <a:ext cx="8307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Times New Roman"/>
              </a:rPr>
              <a:t>Not a routine or available option in commercial XRD control software (with the exception of Bede Scientific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Times New Roman"/>
              </a:rPr>
              <a:t>Something to keep an eye on - or request from vendor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cc"/>
                </a:solidFill>
                <a:latin typeface="Times New Roman"/>
              </a:rPr>
              <a:t>Has the structure been solved already?</a:t>
            </a:r>
            <a:br>
              <a:rPr sz="3600"/>
            </a:br>
            <a:r>
              <a:rPr b="0" lang="en-AU" sz="3600" spc="-1" strike="noStrike">
                <a:solidFill>
                  <a:srgbClr val="ffffcc"/>
                </a:solidFill>
                <a:latin typeface="Times New Roman"/>
              </a:rPr>
              <a:t>Crystallographic Structure Database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ICSD  (Inorganics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55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http://www.fiz-karlsruhe.de/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55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Web accessible demonstration (4% of the database): </a:t>
            </a: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2" marL="795240" indent="-168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http://barns.ill.fr/dif/icsd/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MDF/CRYSTMET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55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(Metals and Alloys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55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http://www.tothcanada.com/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CCSD (organics and organometallics)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55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(Organics and Organometallics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55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http://www.ccdc.cam.ac.uk/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imes New Roman"/>
              </a:rPr>
              <a:t>ICSD via the Web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Using an Interface created by Alan Hewat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There is a trend for databases to use the web due to the convenience and effectiveness.  Also has advantage of being operating system independent for users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http://icsd.ill.fr/icsd/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59436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Powder Data Conversion / Importing Data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Initial problem in powder diffraction can be getting the data in the right format.  For interconverting powder diffraction data: a variety of programs exist which in combination can pretty much get you from one format to anoth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Summary list of available software: http://www.ccp14.ac.uk/solution/powderdataconv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ffffff"/>
                </a:solidFill>
                <a:latin typeface="Times New Roman"/>
              </a:rPr>
              <a:t>Text Editors may occassionally be required: converting UNIX ACSII to DOS ASCII, getting rid of spaces or tabs , column editing: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ffffff"/>
                </a:solidFill>
                <a:latin typeface="Times New Roman"/>
              </a:rPr>
              <a:t>Freeware PFE Editor for Windows: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5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http://www.lancs.ac.uk/people/cpaap/pfe/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Freeware ConTEXT Editor for Windows (does column editing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http://www.context.cx/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965840" y="3048120"/>
            <a:ext cx="4178160" cy="2814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181480" y="1600200"/>
            <a:ext cx="396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Example of ConvX for Windows by Mark Bowden - Mass data powder diffraction data converter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Structure Importing, Conversion and Transformation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Summary list of available software at: http://www.ccp14.ac.uk/solution/structconv/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Be careful to check the resul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Crystallographic knowledge is require for custom operations - pre and post transformation translations, etc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Best program for the moment is the “shareware” Crysc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5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http://www.shapesoftware.com/#anchor_crysc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9144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Example of Cryscon for Windows by Eric Dow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8006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3049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Talk Notes on the web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1143000"/>
            <a:ext cx="8763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a the CCP14 websit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cp14.ac.uk/poster-talks/axaa2005/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Powder Diffraction Utility Software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Examining Data, peak finding, background stripping, alpha-2 stri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Powder v 2.00: http://www.ccp14.ac.uk/tutorial/powder/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Powder X, http://www.ccp14.ac.uk/tutorial/powderx/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WinFIT,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http://www.geol.uni-erlangen.de/html/software/soft.htm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Winplotr, http://www-llb.cea.fr/winplotr/winplotr.ht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XFIT, http://www.ccp14.ac.uk/tutorial/xfit-95/xfit.ht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1143000"/>
            <a:ext cx="4648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ffffff"/>
                </a:solidFill>
                <a:latin typeface="Times New Roman"/>
              </a:rPr>
              <a:t>WinPLOTR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(data display, peak find, peak profiling, indexing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Peak Profiling </a:t>
            </a:r>
            <a:br>
              <a:rPr sz="2800"/>
            </a:b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(indexing, unit cell refinement, size/strain, etc)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For Overall Summary of available peak profiling software refer to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http://www.ccp14.ac.uk/solution/peakprofiling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These include: CMPR, DRXWin, EFLECH, GPLSFT, pearson.xls, SHADOW, Powder v2.00, PowderX, Winfit, Winplotr, XFI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345200" cy="3051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029200" y="495288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Examples of XFIT for Window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cc"/>
                </a:solidFill>
                <a:latin typeface="Times New Roman"/>
              </a:rPr>
              <a:t>Powder Indexing - a non trivial endeavour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For Overall Summary of available powder indexing software refer t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7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http://www.ccp14.ac.uk/solution/indexing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owder Indexing: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 Autox, Ito, Dicvol, Treor, Taup/Powder, Lzon, Losh, Kohl, Scanix, Xrayscan, EFLECH/Index, Supercel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Linking Suites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: Crysfire, Powder v2.00, PowderX, PROSZKI, WinPlotr, Chekcel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supercel</a:t>
            </a: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 is a specialise indexing program by Juan Rodriguez-Carvajal for indexing Super Cell and Incommensurate cells. (available within Winplot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7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http://www-llb.cea.fr/winplotr/winplotr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7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tp://bali.saclay.cea.fr/pub/divers/fullprof.2k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cc"/>
                </a:solidFill>
                <a:latin typeface="Times New Roman"/>
              </a:rPr>
              <a:t>Powder Indexing - the “Crysfire” suit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At present the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CRYSFIRE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 software by Robin Shirley links 9 different indexing programs (including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ito, dicvol, treor, taup, kohl, lzon and fjzn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) together with a common interface and using intelligent defaults.  Important to have access to as many indexing programs as possible so you can get a feel for the range of possible solutions. (not free for commercial us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http://www.ccp14.ac.uk/tutorial/crys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048120"/>
            <a:ext cx="2057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Example of CRYSFIRE Screen prompting the saving into one of 9 different indexing program formats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67816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Chekcell: Interpreting Crysfire Summary Files: </a:t>
            </a:r>
            <a:br>
              <a:rPr sz="3200"/>
            </a:b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owder Indexing and Spacegroup Assignment</a:t>
            </a:r>
            <a:r>
              <a:rPr b="0" lang="en-A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Crysfire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 interlinks with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Chekcell for Windows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AU" sz="1800" spc="-1" strike="noStrike">
                <a:solidFill>
                  <a:srgbClr val="ffffff"/>
                </a:solidFill>
                <a:latin typeface="Times New Roman"/>
              </a:rPr>
              <a:t>(part of the LMGP suite for Windows by Jean Laugier and Bernard Bochu)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Chekcell</a:t>
            </a: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 provides a graphical interface for manually and automatically suggesting a best cell/spacegroup combination using both FOM and algorithms relating to parsimony of superfluous HKLs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http://www.ccp14.ac.uk/tutorial/lmgp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12952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Other new programs</a:t>
            </a:r>
            <a:br>
              <a:rPr sz="4000"/>
            </a:b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(impurity peak tolerant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CVOL 2004 by A. Boultif &amp; D. Lou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ccp14.ac.uk/ccp/web-mirrors/dicvol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Maille reconstructed whole profile indexing by Armel Le Ba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dpd.univ-lemans.fr/McMaille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6098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Have to Index: Really a phase ID problem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055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When not in the database, you may have to try and index as part of phase Identifica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Following is of a herbicide commonly used in South Africa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8839080" cy="20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Times New Roman"/>
              </a:rPr>
              <a:t>Unit Cell Refinement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For Overall Summary of available unit cell refinement software refer t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http://www.ccp14.ac.uk/solution/unitcellrefine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is includ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Celref, LAPOD, Refcel, Unitcell, Eracel, Powder v2.00, XLAT, et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Can be helpful to perform a conventional unit-cell refinement prior to a Le Bail fit or quantitative analysis when given cell values are far from the actual valu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Unit Cell Refinement - what is needed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Profiled peak positions (using a peak profile progra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Cell (and spacegroup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UNIT Cell refinement program to perform the refin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Useful to check the alignment of your diffractometer (don’t just rely on one Silicon or Quartz peak); perform a unit cell refinement on the entire 2-theta range supported by the diffractometer (e.g., 5 to 160 for many Bragg Brentano diffractometer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CELREF for Unit Cell Refinement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2767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by Jean Laugier and Bernard Bochu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500" spc="-1" strike="noStrike">
                <a:solidFill>
                  <a:srgbClr val="ffffff"/>
                </a:solidFill>
                <a:latin typeface="Times New Roman"/>
              </a:rPr>
              <a:t>http://www.ccp14.ac.uk/tutorial/lmgp/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52480" y="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cc"/>
                </a:solidFill>
                <a:latin typeface="Times New Roman"/>
              </a:rPr>
              <a:t>Why  bother knowing about a variety of MODERN software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2120"/>
            <a:ext cx="3200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92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h of Most Resistanc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9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a variety of “state-of-the-art” tools can improve versatility by allowing different pathways and approaches to tackle crystallographic problem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9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6172200" cy="33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657600" y="3505320"/>
            <a:ext cx="40384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Using CELREF for Unit Cell Refinement</a:t>
            </a:r>
            <a:br>
              <a:rPr sz="3400"/>
            </a:b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Loading the raw data file (optional)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6637320" cy="4978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733920" y="1371600"/>
            <a:ext cx="51418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Using CELREF for Unit Cell Refinement</a:t>
            </a:r>
            <a:br>
              <a:rPr sz="3400"/>
            </a:b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Loading the peak listing file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78996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Using CELREF for Unit Cell Refinement</a:t>
            </a:r>
            <a:br>
              <a:rPr sz="3400"/>
            </a:b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Load or input the cell and spacegroup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00200" y="146700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Using CELREF for Unit Cell Refinement</a:t>
            </a:r>
            <a:br>
              <a:rPr sz="3400"/>
            </a:b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Auto-match peak positions to HKLs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3880" y="153036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Using CELREF for Unit Cell Refinement</a:t>
            </a:r>
            <a:br>
              <a:rPr sz="3400"/>
            </a:b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Perform the refinement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6400800" cy="4800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581280" y="1219320"/>
            <a:ext cx="534528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UNITCell refinement with internal standard</a:t>
            </a:r>
            <a:br>
              <a:rPr sz="3400"/>
            </a:b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(such as NBS/NIST Silicon)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XLAT - Berhard Rup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tp://jgiqc.llnl.gov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ccp14.ac.uk/ccp/ccp14/ftp-mirror/llnlrupp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tp://ftp.ccp14.ac.uk/ccp14/ftp-mirror/llnlrupp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Full Profile Fitting (Powder)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For Overall Summary of available full profile analysis refer t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Le Bail based: http://www.ccp14.ac.uk/solution/lebail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Pawley Based: http://www.ccp14.ac.uk/solution/pawley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The most common method of full profile fitting is that of Le Bail fitting: which is in most Rietveld packages.  It is useful for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Spacegroup Assign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Unit Cell Refinement (especially when overlap is a problem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Extracting Intensities for Structure Solu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52640" y="151920"/>
            <a:ext cx="92962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cc"/>
                </a:solidFill>
                <a:latin typeface="Times New Roman"/>
              </a:rPr>
              <a:t>Unit Cell Refinement: Mass Le Bail fitting: multi-phase - overlapping patterns</a:t>
            </a:r>
            <a:endParaRPr b="0" i="1" lang="en-US" sz="2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23623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Le Bail fit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533520"/>
            <a:ext cx="3047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220680" indent="-220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Traditional Method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486400" y="990720"/>
            <a:ext cx="2741760" cy="5182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27241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cc"/>
                </a:solidFill>
                <a:latin typeface="Times New Roman"/>
              </a:rPr>
              <a:t>Quickly and automatically tracking changes in masses of data using a script in GSAS:  </a:t>
            </a:r>
            <a:endParaRPr b="0" i="1" lang="en-US" sz="2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4419720" cy="34052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5638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cc"/>
                </a:solidFill>
                <a:latin typeface="Times New Roman"/>
              </a:rPr>
              <a:t>Structure Refinement using Powder Diffraction Data</a:t>
            </a:r>
            <a:br>
              <a:rPr sz="3200"/>
            </a:br>
            <a:r>
              <a:rPr b="0" lang="en-AU" sz="3200" spc="-1" strike="noStrike">
                <a:solidFill>
                  <a:srgbClr val="ffffcc"/>
                </a:solidFill>
                <a:latin typeface="Times New Roman"/>
              </a:rPr>
              <a:t>(Rietveld Refinemen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752480"/>
            <a:ext cx="8534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Large range of programs to choose from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http://www.ccp14.ac.uk/mirror/mirror.ht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specialize for particular types of problems, incommensurate structures, quantitative analysis, polymers, et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ITVE, BGMN, DBWS, DEBVIN, EXP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prof, GSAS, Koalariet, LHPM-Rietica, MAUD for Java (GPL’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mos/Remos, ProDD, Profil, Riet7/SR5, Rietan 2000 (GPL’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etquan, Simref, WinMprof, XND, XRS-82/DLS-76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0" y="0"/>
            <a:ext cx="9137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cc"/>
                </a:solidFill>
                <a:latin typeface="Times New Roman"/>
              </a:rPr>
              <a:t>Using the right crystallographic method can make the difference!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335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220680" indent="-220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Le Bail fitting / Rietv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533520"/>
            <a:ext cx="449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35080" indent="-235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ing Traditional UNIT CELL refinement Method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78480" y="990720"/>
            <a:ext cx="2741760" cy="5182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35080" y="990720"/>
            <a:ext cx="27241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" y="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Rietveld Programs - GSAS by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on Dreele and Lar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762120"/>
            <a:ext cx="7848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With  Graphical User Interface using Brian Toby’s EXPGU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Still got to appreciate and know your crystallography for inserting and refining the crystal struct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spcBef>
                <a:spcPts val="45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http://www.ccp14.ac.uk/solution/gsas/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65041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GSAS Rietveld: Some Relevant Background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Bob von Dreele and Alan Lars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u based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ilable for Windows / DOS / Linux / SG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arate GUI by Brian Toby (EXPGUI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bined X-ray /  Neutron / Single Crystal / Powder Diffra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ted Fourier map generation and view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1143000"/>
            <a:ext cx="4648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SAS resources, tutorials and link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(including links to EXPGUI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http://www.ccp14.ac.uk/solution/gsas/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ai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ond angl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ond lengt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lana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tal Chemistry / charge balan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iral volu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i/psi grou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rsion angl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ual Marquadt damp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om shift limi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ts of other featur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cc"/>
                </a:solidFill>
                <a:latin typeface="Times New Roman"/>
              </a:rPr>
              <a:t>GSAS :  Combined refinement on both XRD and Neutron</a:t>
            </a:r>
            <a:endParaRPr b="0" i="1" lang="en-US" sz="2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600200"/>
            <a:ext cx="4419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-ray 7.6% R(F**2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~3.8% R Bragg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1600200"/>
            <a:ext cx="4343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utron 4.2% R(F**2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~2.1% R Bragg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48320" y="2895480"/>
            <a:ext cx="4495680" cy="3372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-381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MAUD for Java : GPL’d - can be used by all!</a:t>
            </a:r>
            <a:endParaRPr b="0" i="1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914400"/>
            <a:ext cx="899172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utorial on “Performing an x-ray quantitative analysis in seven easy steps!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ing.unitn.it/~luttero/maud/tutorial/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962520" cy="3949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419076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Quantitative Phase Analys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76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Times New Roman"/>
              </a:rPr>
              <a:t>Non-trivial and in many cases, custom solutions may be required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Times New Roman"/>
              </a:rPr>
              <a:t>Rietveld programs are commonly used for Quantitative Analysis (refer list in previous slide).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Times New Roman"/>
              </a:rPr>
              <a:t>Maud for Java Quantitative Analysis Tutorial: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http://www.ing.unitn.it/~luttero/maud/tutorial/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Times New Roman"/>
              </a:rPr>
              <a:t>Refer to non-Rietveld references cited in: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038480" y="1981080"/>
            <a:ext cx="4953240" cy="3714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886200" y="762120"/>
            <a:ext cx="5257800" cy="510516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Following using Koalariet / XF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(fundamental parameter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ccp14.ac.uk/tutorial/xfit-95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943600"/>
            <a:ext cx="807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http://www.ccp14.ac.uk/poster-talks/david-hay-quant-notes-axaa99/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152280"/>
            <a:ext cx="8915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For trace quantitative analysis, variable count time on the trace peaks that matter could be beneficial - if your data collection software allows you t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86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Peak profiling on trace peaks is difficult with fixed count time!  Same goes with Rietveld fitting of trace phas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Peak profiling on trace peaks can be made easier by using Variable Count time method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7820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Accurate” Quantitative Phase Analysis - is it routinely easy?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1371600"/>
            <a:ext cx="7010640" cy="51055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Based on the IUCr CPD Quant Round Rob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http://www.iucr.org/iucr-top/comm/cpd/QARR/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The answer seems to be </a:t>
            </a:r>
            <a:r>
              <a:rPr b="1" lang="en-GB" sz="4400" spc="-1" strike="noStrike">
                <a:solidFill>
                  <a:srgbClr val="ff3300"/>
                </a:solidFill>
                <a:latin typeface="Times New Roman"/>
              </a:rPr>
              <a:t>No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imes New Roman"/>
              </a:rPr>
              <a:t>A quote from Armel Le Bail’s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Tmacle “twinned refinement” manual seems appropriate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http://sdpd.univ-lemans.fr/museum/tmacle92.zi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GOOD LUCK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IT'S VERY HARD!  DON'T YOU THINK SO?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ONLY THE BOSS SAID THAT IT IS EASY,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BUT HE NEVER TRIED!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TO HAVE THE SOLUTION DEPENDS ON YOU,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NOT ON THIS PROGRAM WHICH IS JUST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ABLE TO TEST YOUR HYPOTHESIS......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9528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Powder diffraction pattern calculation</a:t>
            </a:r>
            <a:br>
              <a:rPr sz="3600"/>
            </a:b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Poudrix for Window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600200"/>
            <a:ext cx="4191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Powder Cell by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ean Laugier and Bernard Boch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Times New Roman"/>
              </a:rPr>
              <a:t>http://www.ccp14.ac.uk/tutorial/lmgp/#pdw</a:t>
            </a:r>
            <a:endParaRPr b="0" lang="en-US" sz="17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oudrix can handle anomalous dispersion at non X-ray tube wavelengths with the option of two models: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enann and Cow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sak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95680" y="251460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2636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Talk Agenda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t from Data conversion and phase identif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 through to photo realistically rendering crystal structur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a stops includ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ak profil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wder index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wder unit cell refin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etveld structure refinement (briefly as this is covered in other talk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ntitative Phase Analysis (very briefly as covered in other talk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otorealistic rendering of crystal structur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Powder diffraction pattern calculation</a:t>
            </a:r>
            <a:br>
              <a:rPr sz="3600"/>
            </a:b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Powder Cell for Window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42670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By Werner Kraus and Gert Nolze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http://www.ccp14.ac.uk/tutorial/powdcell/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freeware but if you want the software continued, consider giving a minimum of 15 Euros under an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"Agreement on a Financing Contribution for Subsidy Projects"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572000" cy="3362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0880" y="15228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Simulating multiple phase patterns with Powder Cel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600200"/>
            <a:ext cx="8534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Is possible to easily load two or more phases and calculate powder pattern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ine the degree of peak overla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imate number of counts required to see desired phases prior to running th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elementary effects of geometry, wavelength and peak offs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0880" y="152280"/>
            <a:ext cx="8991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imulating multiple phase patterns with Powder Cell</a:t>
            </a:r>
            <a:br>
              <a:rPr sz="3200"/>
            </a:b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Open the phase / crystal structure using File Load:</a:t>
            </a:r>
            <a:br>
              <a:rPr sz="3200"/>
            </a:b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(in this case : anatase and rutil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0880" y="15228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Change the diffraction conditions as required using the “Diffraction, Experiment” men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8580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0880" y="152280"/>
            <a:ext cx="8991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At this point, what would the diffraction pattern of 1% Anatase in Rutile look like - use the “Diffraction Phase Option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676520" y="1614600"/>
            <a:ext cx="662940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152280"/>
            <a:ext cx="8991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Then OK to calculate the diffraction pattern of 1% Anatase in Rutile : Recalcul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78168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reeware” for photorealistic hardcopy output of structures</a:t>
            </a:r>
            <a:br>
              <a:rPr sz="2400"/>
            </a:b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GRETEP and Povray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-380880" y="1447920"/>
            <a:ext cx="5715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Gretep for Windows (Jean Laugier and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Bernard Bochu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an open Shelx, PowderCell, LazyPulvarix and CIF.  Export Povray fi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oint and click operation.  Save all information into a Gretep file (atom labels, bond labels, colours, etc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ttp://www.ccp14.ac.uk/tutorial/lmgp/#grete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http://www.ccp14.ac.uk/ccp/web-mirrors/lmgp-laugier-bochu/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Times New Roman"/>
              </a:rPr>
              <a:t>Povray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Freeware open source photorealistic rendering softwa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imes New Roman"/>
              </a:rPr>
              <a:t>http://www.povray.or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29718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088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GRETEP - rendered structure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78168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siperov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31240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8088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DrawXTL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 for for Window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by Larry Finger and Martin Kroeker -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 Structure Drawing softwa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1371600"/>
            <a:ext cx="5486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lwfinger.net/drawxtl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7" name="screen" descr=""/>
          <p:cNvPicPr/>
          <p:nvPr/>
        </p:nvPicPr>
        <p:blipFill>
          <a:blip r:embed="rId3"/>
          <a:stretch/>
        </p:blipFill>
        <p:spPr>
          <a:xfrm>
            <a:off x="228600" y="2608200"/>
            <a:ext cx="4343400" cy="3492720"/>
          </a:xfrm>
          <a:prstGeom prst="rect">
            <a:avLst/>
          </a:prstGeom>
          <a:ln w="0">
            <a:noFill/>
          </a:ln>
        </p:spPr>
      </p:pic>
      <p:pic>
        <p:nvPicPr>
          <p:cNvPr id="248" name="stish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5880" y="1219320"/>
            <a:ext cx="27432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2428920" y="1722600"/>
            <a:ext cx="4286160" cy="3293640"/>
            <a:chOff x="2428920" y="1722600"/>
            <a:chExt cx="4286160" cy="3293640"/>
          </a:xfrm>
        </p:grpSpPr>
        <p:sp>
          <p:nvSpPr>
            <p:cNvPr id="250" name=""/>
            <p:cNvSpPr/>
            <p:nvPr/>
          </p:nvSpPr>
          <p:spPr>
            <a:xfrm>
              <a:off x="2428920" y="1722600"/>
              <a:ext cx="4286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28920" y="1722600"/>
              <a:ext cx="4286160" cy="27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cc00cc"/>
                  </a:solidFill>
                  <a:uFillTx/>
                  <a:latin typeface="Times New Roman"/>
                  <a:hlinkClick r:id="rId6"/>
                </a:rPr>
                <a:t>  </a:t>
              </a:r>
              <a:r>
                <a:rPr b="1" lang="en-US" sz="17200" spc="-1" strike="noStrike">
                  <a:solidFill>
                    <a:srgbClr val="ffffcc"/>
                  </a:solidFill>
                  <a:latin typeface="Times New Roman"/>
                </a:rPr>
                <a:t> </a:t>
              </a: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                                                     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28920" y="4435560"/>
              <a:ext cx="4286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253" name="sm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7220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reeware for photorealistic hardcopy output of structures</a:t>
            </a:r>
            <a:br>
              <a:rPr sz="2400"/>
            </a:br>
            <a:r>
              <a:rPr b="0" i="1" lang="en-US" sz="3400" spc="-1" strike="noStrike">
                <a:solidFill>
                  <a:srgbClr val="ffffcc"/>
                </a:solidFill>
                <a:latin typeface="Times New Roman"/>
              </a:rPr>
              <a:t>Balls and Sticks </a:t>
            </a:r>
            <a:r>
              <a:rPr b="0" i="1" lang="en-US" sz="2200" spc="-1" strike="noStrike">
                <a:solidFill>
                  <a:srgbClr val="ffffcc"/>
                </a:solidFill>
                <a:latin typeface="Times New Roman"/>
              </a:rPr>
              <a:t>by </a:t>
            </a:r>
            <a:r>
              <a:rPr b="0" i="1" lang="en-GB" sz="2200" spc="-1" strike="noStrike">
                <a:solidFill>
                  <a:srgbClr val="ffffcc"/>
                </a:solidFill>
                <a:latin typeface="Times New Roman"/>
              </a:rPr>
              <a:t>Sung J. Kang &amp; Tadashi C. Ozaw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1447920"/>
            <a:ext cx="5867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295280"/>
            <a:ext cx="830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ttp://www.toycrate.or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vidual point and click creation of polyhedra and bonds via a Windows graphical user interfa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876920" y="3200400"/>
            <a:ext cx="1950840" cy="3249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971800" y="3276720"/>
            <a:ext cx="2014560" cy="28954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2759040" cy="2895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6934320" y="3048120"/>
            <a:ext cx="190476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cc"/>
                </a:solidFill>
                <a:latin typeface="Times New Roman"/>
              </a:rPr>
              <a:t>Phase Identification/Search Match for Powder Diffraction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Two main parts to perform computer based search-match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1. Have a Powder Diffraction Database (buy or make your ow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2. Search-match software that uses the above database to sear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Databas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ICDD has the commercial powder diffraction database area sewn up   http://www.icdd.com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Nearly all Search-match programs are commerc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Refer to, "Available Search-Match Software" for a list of known softwar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http://www.ccp14.ac.uk/solution/search-match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Free Software: Brian Toby's "Portable Logic Program" (UNIX) and "MacDiff" for Apple Mac freeware by Rainer Petschi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cc"/>
                </a:solidFill>
                <a:latin typeface="Times New Roman"/>
              </a:rPr>
              <a:t>Some Other Web Resources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IUCr Commission on Powder Diffraction Newsletter (free hardcopy sent by air-mail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iucr.org/iucr-top/comm/cpd/Newsletters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u.iucr.org/iucr-top/comm/cpd/Newsletters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CD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icdd.com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UCr News Onl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iucr.org/cww-top/crystal.index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au.iucr.org/cww-top/crystal.index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UCr Sincris Software Datab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se.iucr.org/sincris-top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cc"/>
                </a:solidFill>
                <a:latin typeface="Times New Roman"/>
              </a:rPr>
              <a:t>Summary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Large Genetic Diversity of Software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This diversity is necessary to help you get the job done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Getting better all the time (some areas faster than others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Times New Roman"/>
              </a:rPr>
              <a:t>Free available for Academics and Students and much is freely available for everyone (if in doubt check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3300"/>
                </a:solidFill>
                <a:latin typeface="Times New Roman"/>
              </a:rPr>
              <a:t>BUT remember that difficult problems have a habit of being difficult to do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Much of which is downloadable via the EPSRC funded CCP14 websit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Times New Roman"/>
              </a:rPr>
              <a:t>http://www.ccp14.ac.u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ff"/>
                </a:solidFill>
                <a:latin typeface="Times New Roman"/>
              </a:rPr>
              <a:t>E-mail: ccp14@dl.ac.uk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cc"/>
                </a:solidFill>
                <a:latin typeface="Times New Roman"/>
              </a:rPr>
              <a:t>Phase Identification/Search Match for Powder Diffraction 2 of 3</a:t>
            </a:r>
            <a:br>
              <a:rPr sz="2400"/>
            </a:br>
            <a:r>
              <a:rPr b="0" lang="en-AU" sz="2400" spc="-1" strike="noStrike">
                <a:solidFill>
                  <a:srgbClr val="ffffcc"/>
                </a:solidFill>
                <a:latin typeface="Times New Roman"/>
              </a:rPr>
              <a:t>Identifying an organic – DL-Valine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1066680"/>
          <a:ext cx="716292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66680"/>
                    <a:ext cx="71629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cc"/>
                </a:solidFill>
                <a:latin typeface="Times New Roman"/>
              </a:rPr>
              <a:t>Phase Identification/Search Match for Powder Diffraction 3 of 3</a:t>
            </a:r>
            <a:br>
              <a:rPr sz="2400"/>
            </a:br>
            <a:r>
              <a:rPr b="0" lang="en-AU" sz="2400" spc="-1" strike="noStrike">
                <a:solidFill>
                  <a:srgbClr val="ffffcc"/>
                </a:solidFill>
                <a:latin typeface="Times New Roman"/>
              </a:rPr>
              <a:t>Multiphase mixture: Flourite, Corundum, Zincite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66680" y="1066680"/>
          <a:ext cx="7162920" cy="48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66680"/>
                    <a:ext cx="7162920" cy="48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cc"/>
                </a:solidFill>
                <a:latin typeface="Times New Roman"/>
              </a:rPr>
              <a:t>Sample Preparation and Data Collection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509760" indent="-2224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Assumption is that you know about appropriate sample preparation and data colle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09760" indent="-2224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However, many hardware vendors might not provide the required flexibility in data colle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3:52:14Z</dcterms:created>
  <dc:creator>LDEO Petrology</dc:creator>
  <dc:description/>
  <dc:language>en-US</dc:language>
  <cp:lastModifiedBy>AECL</cp:lastModifiedBy>
  <cp:lastPrinted>2002-01-26T20:04:48Z</cp:lastPrinted>
  <dcterms:modified xsi:type="dcterms:W3CDTF">2005-01-31T18:02:15Z</dcterms:modified>
  <cp:revision>19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cp14.ac.uk</vt:lpwstr>
  </property>
  <property fmtid="{D5CDD505-2E9C-101B-9397-08002B2CF9AE}" pid="9" name="LinkColor">
    <vt:r8>16711782</vt:r8>
  </property>
  <property fmtid="{D5CDD505-2E9C-101B-9397-08002B2CF9AE}" pid="10" name="MailAddress">
    <vt:lpwstr>l.m.d.cranswick@dl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achlan\ccp14a\axaa2002\talk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