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9CB0-FFFA-4AF7-82F7-07293AE45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44C3-79AC-4857-8383-644D5F2E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523F-BE95-4357-932C-C490CBCB4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FEB5-D292-418C-80AF-35A82D42A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89E8-849E-40E7-8912-1B3F5EDF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43EB-9524-4878-94D8-30316435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8707-DFAF-456D-AA76-9620C806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AD64-8FFE-4BCE-ADC8-DE285A65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0066-97C6-4DDE-94D7-4C8CC289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1AAD-13B5-46F7-83F9-18D57CD1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6E99-A90C-4CCA-A4F8-3F60394D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D931-3E75-42E8-BC6C-29D12203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C439-77D7-4403-A42C-D739660DC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5181480"/>
            <a:ext cx="851076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lexander J. Blake, School of Chemi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University of Nottingham, Nottingham 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Verdana"/>
              </a:rPr>
              <a:t>Refinement on weak</a:t>
            </a:r>
            <a:r>
              <a:rPr b="1" lang="en-GB" sz="3200" spc="-1" strike="noStrike">
                <a:solidFill>
                  <a:srgbClr val="3333ff"/>
                </a:solidFill>
                <a:latin typeface="Verdana"/>
              </a:rPr>
              <a:t> or </a:t>
            </a:r>
            <a:r>
              <a:rPr b="1" lang="en-US" sz="3200" spc="-1" strike="noStrike">
                <a:solidFill>
                  <a:srgbClr val="3333ff"/>
                </a:solidFill>
                <a:latin typeface="Verdana"/>
              </a:rPr>
              <a:t>problematic small molecule data</a:t>
            </a:r>
            <a:r>
              <a:rPr b="1" lang="en-GB" sz="3200" spc="-1" strike="noStrike">
                <a:solidFill>
                  <a:srgbClr val="3333ff"/>
                </a:solidFill>
                <a:latin typeface="Verdana"/>
              </a:rPr>
              <a:t> using SHELXL-97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ngle Crystal and Powder Diffractio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oftware Workshop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24 August 2003  ECM-21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urban, South Af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un_tf_blk_sm.tif" descr=""/>
          <p:cNvPicPr/>
          <p:nvPr/>
        </p:nvPicPr>
        <p:blipFill>
          <a:blip r:embed="rId1"/>
          <a:stretch/>
        </p:blipFill>
        <p:spPr>
          <a:xfrm>
            <a:off x="5715000" y="304920"/>
            <a:ext cx="314172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Some of the tools – a brief surv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1905120"/>
            <a:ext cx="868680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XYZ atom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same x, y and z parameters are used for all the named atom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ADP atom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same isotropic or anisotropic displacement parameters are used for all the named atom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ART  n  s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following atoms belong to PART n of a disordered group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1371600"/>
            <a:ext cx="6477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3505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The tools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1905120"/>
            <a:ext cx="8686800" cy="44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DFIX  d  s[0.02]  atom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distance pairs of atoms are restrained to a specified target value of d(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ADI  s[0.02]  atom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distances between pairs of atoms are restrained to be equal with an effective standard deviation s (cf. DFI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AME  s1[0.02]  s2[0.02]  atom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atoms specified here are linked to the same number of atoms which follo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1447920"/>
            <a:ext cx="2286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The tools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7680" y="176220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1752480"/>
            <a:ext cx="845820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FLAT  s[0.1]  four or more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named atoms are restrained to lie in a plan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UMP  c  sigma  c1  m1  c2  m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linear restraint:   c = c1*fv(m1) + c2*fv(m2) + ...   is applied to the specified free variable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DELU/SIMU/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pplies various restraints to ADP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1295280"/>
            <a:ext cx="2286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971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The tools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2057400"/>
            <a:ext cx="8153280" cy="36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FRAG code[17] a … 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nables a fragment to be input using an input cell and coordinate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F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his must immediately follow the last atom of a FRAG frag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FIX  n&gt;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pplies geometry of fragment with this n val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077320" y="2438280"/>
            <a:ext cx="838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458200" y="2438280"/>
            <a:ext cx="0" cy="358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8229240" y="2438280"/>
            <a:ext cx="2286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8229240" y="6019920"/>
            <a:ext cx="2286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295280"/>
            <a:ext cx="2286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ractical applicatio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581280" y="2895120"/>
            <a:ext cx="51055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DFIX 1.38 0.01  B F1  B F2  B F3  B 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DFIX 2.25 0.02  F1 F2  F1 F3  F1 F4 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F2 F3  F2 F4  F3 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BF4-ORD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2662200" cy="3046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981080" y="586728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Verdana"/>
              </a:rPr>
              <a:t>This is often a prelude to disorder modelling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1447920"/>
            <a:ext cx="6476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33720" y="533520"/>
            <a:ext cx="5333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ractical applicatio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733560" y="2438280"/>
            <a:ext cx="5105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FIX 1.38 0.01  B F1  B F2  B F3  B 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FIX 2.25 0.02  F1 F2  F1 F3  F1 F4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2 F3  F2 F4  F3 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BF4DISORD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2878200" cy="28670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581280" y="4191120"/>
            <a:ext cx="556272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Verdana"/>
              </a:rPr>
              <a:t>DFIX 1.38 0.01  B F1’  B F2’  B F3’  B F4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Verdana"/>
              </a:rPr>
              <a:t>DFIX 2.25 0.02  F1’ F2’  F1’ F3’  F1’ F4’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Verdana"/>
              </a:rPr>
              <a:t>        </a:t>
            </a:r>
            <a:r>
              <a:rPr b="1" lang="en-GB" sz="1800" spc="-1" strike="noStrike">
                <a:solidFill>
                  <a:srgbClr val="ff5050"/>
                </a:solidFill>
                <a:latin typeface="Verdana"/>
              </a:rPr>
              <a:t>F2’ F3’  F2’ F4’  F3’ F4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59436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Verdana"/>
              </a:rPr>
              <a:t>+ refine occupancy of F1—F4 versus F1’—F4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1371600"/>
            <a:ext cx="6476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ractical application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SbF6" descr=""/>
          <p:cNvPicPr/>
          <p:nvPr/>
        </p:nvPicPr>
        <p:blipFill>
          <a:blip r:embed="rId1"/>
          <a:srcRect l="9334" t="9334" r="9334" b="6999"/>
          <a:stretch/>
        </p:blipFill>
        <p:spPr>
          <a:xfrm>
            <a:off x="304920" y="2666880"/>
            <a:ext cx="3498840" cy="3598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62520" y="259092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SADI  0.01  SB26 F27  SB26 F28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33526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SADI  0.02  F27 F28  F27 F29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4572000"/>
            <a:ext cx="5181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Verdana"/>
              </a:rPr>
              <a:t>SADI  0.02  F27 F30  F28 F31  F29 F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Verdana"/>
              </a:rPr>
              <a:t>(</a:t>
            </a:r>
            <a:r>
              <a:rPr b="1" i="1" lang="en-GB" sz="1800" spc="-1" strike="noStrike">
                <a:solidFill>
                  <a:srgbClr val="3333cc"/>
                </a:solidFill>
                <a:latin typeface="Verdana"/>
              </a:rPr>
              <a:t>trans</a:t>
            </a:r>
            <a:r>
              <a:rPr b="1" lang="en-GB" sz="1800" spc="-1" strike="noStrike">
                <a:solidFill>
                  <a:srgbClr val="3333cc"/>
                </a:solidFill>
                <a:latin typeface="Verdana"/>
              </a:rPr>
              <a:t> ang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38862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en-GB" sz="1800" spc="-1" strike="noStrike">
                <a:solidFill>
                  <a:srgbClr val="000000"/>
                </a:solidFill>
                <a:latin typeface="Verdana"/>
              </a:rPr>
              <a:t>cis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angles onl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79132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Verdana"/>
              </a:rPr>
              <a:t>mean Sb—F 1.85(1) Å (175 CCDC entr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1447920"/>
            <a:ext cx="6476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2320" y="380880"/>
            <a:ext cx="5410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ractical application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124080" y="1447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unrealistic bonds and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or agreement between 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looks unsatisfa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tripodal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3124080" cy="3051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80880" y="19051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ll-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ripodal lig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05320" y="3352680"/>
            <a:ext cx="54864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Similarity restraints (distances+ang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AME  0.01  C1 &gt; O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11 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17 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057400" y="4419720"/>
            <a:ext cx="129528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752120" y="4495320"/>
            <a:ext cx="1676520" cy="304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52680" y="60958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3333cc"/>
                </a:solidFill>
                <a:latin typeface="Verdana"/>
              </a:rPr>
              <a:t> “</a:t>
            </a:r>
            <a:r>
              <a:rPr b="0" lang="en-GB" sz="2400" spc="-1" strike="noStrike">
                <a:solidFill>
                  <a:srgbClr val="3333cc"/>
                </a:solidFill>
                <a:latin typeface="Verdana"/>
              </a:rPr>
              <a:t>average out” the discrepa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1219320"/>
            <a:ext cx="6476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596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ractical application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743200"/>
            <a:ext cx="801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with two sites just use a fre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with more it is a bit more complic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4343400"/>
            <a:ext cx="87771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UMP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everal free variables on FVAR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ree variable references in ATOM 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1219320"/>
            <a:ext cx="724392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17524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sorder over multiple (&gt;2) 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5943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ractical application 4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1371600"/>
            <a:ext cx="6629400" cy="1219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05120" y="182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B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95480" y="1523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B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9880" y="2057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B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1752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B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1752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B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327672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SUMP 1.00 0.01  1 2  1 3  1 4  1 5  1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40384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FVAR  osf   0.2  0.2  0.2  0.2  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648320"/>
            <a:ext cx="43434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Br1   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x y z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21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Br2   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x y z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31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Br3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x y z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41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Br4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x y z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51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Br5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x y z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61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403848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hese occupancies will refine subject to their sum staying close to 1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1066680"/>
            <a:ext cx="6476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roblem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00200" y="1828800"/>
            <a:ext cx="2209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win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ff505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5050"/>
                </a:solidFill>
                <a:latin typeface="Verdana"/>
              </a:rPr>
              <a:t>crystal siz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505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ff505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5050"/>
                </a:solidFill>
                <a:latin typeface="Verdana"/>
              </a:rPr>
              <a:t>vo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DPs</a:t>
            </a: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ff505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5050"/>
                </a:solidFill>
                <a:latin typeface="Verdana"/>
              </a:rPr>
              <a:t>disord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495680" y="2590920"/>
            <a:ext cx="3276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250"/>
              </a:spcBef>
              <a:buClr>
                <a:srgbClr val="ff505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5050"/>
                </a:solidFill>
                <a:latin typeface="Verdana"/>
              </a:rPr>
              <a:t>pseudosymmet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250"/>
              </a:spcBef>
              <a:buClr>
                <a:srgbClr val="ff505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5050"/>
                </a:solidFill>
                <a:latin typeface="Verdana"/>
              </a:rPr>
              <a:t>residual e</a:t>
            </a:r>
            <a:r>
              <a:rPr b="1" lang="en-GB" sz="2000" spc="-1" strike="noStrike" baseline="25000">
                <a:solidFill>
                  <a:srgbClr val="ff5050"/>
                </a:solidFill>
                <a:latin typeface="Verdan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bsor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H at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1600200"/>
            <a:ext cx="6477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ractical application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AGCOBQ1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1828800" cy="3959280"/>
          </a:xfrm>
          <a:prstGeom prst="rect">
            <a:avLst/>
          </a:prstGeom>
          <a:ln w="0">
            <a:noFill/>
          </a:ln>
        </p:spPr>
      </p:pic>
      <p:pic>
        <p:nvPicPr>
          <p:cNvPr id="138" name="AGCOBQ1" descr=""/>
          <p:cNvPicPr/>
          <p:nvPr/>
        </p:nvPicPr>
        <p:blipFill>
          <a:blip r:embed="rId2"/>
          <a:stretch/>
        </p:blipFill>
        <p:spPr>
          <a:xfrm>
            <a:off x="6858000" y="2819520"/>
            <a:ext cx="1828800" cy="2519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048120" y="2133720"/>
            <a:ext cx="3352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Multiple DFIX instr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o—B  Co—C  B—B  B—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90920" y="33526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Manual or automatic gen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19520" y="43434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+ similarity restraints between c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71800" y="5181480"/>
            <a:ext cx="3352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omplic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(and no angle restrain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48520" y="5562720"/>
            <a:ext cx="1690560" cy="733320"/>
          </a:xfrm>
          <a:custGeom>
            <a:avLst/>
            <a:gdLst>
              <a:gd name="textAreaLeft" fmla="*/ 563400 w 1690560"/>
              <a:gd name="textAreaRight" fmla="*/ 1447920 w 1690560"/>
              <a:gd name="textAreaTop" fmla="*/ 422280 h 733320"/>
              <a:gd name="textAreaBottom" fmla="*/ 628200 h 7333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71600" y="1143000"/>
            <a:ext cx="6477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A hexanuclear cage</a:t>
            </a: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GB" sz="3200" spc="-1" strike="noStrike">
                <a:solidFill>
                  <a:srgbClr val="ff00ff"/>
                </a:solidFill>
                <a:latin typeface="Verdana"/>
              </a:rPr>
              <a:t>[Ag</a:t>
            </a:r>
            <a:r>
              <a:rPr b="1" lang="en-GB" sz="3200" spc="-1" strike="noStrike" baseline="-25000">
                <a:solidFill>
                  <a:srgbClr val="ff00ff"/>
                </a:solidFill>
                <a:latin typeface="Verdana"/>
              </a:rPr>
              <a:t>6</a:t>
            </a:r>
            <a:r>
              <a:rPr b="1" lang="en-GB" sz="3200" spc="-1" strike="noStrike">
                <a:solidFill>
                  <a:srgbClr val="ff00ff"/>
                </a:solidFill>
                <a:latin typeface="Verdana"/>
              </a:rPr>
              <a:t>L</a:t>
            </a:r>
            <a:r>
              <a:rPr b="1" lang="en-GB" sz="3200" spc="-1" strike="noStrike" baseline="-25000">
                <a:solidFill>
                  <a:srgbClr val="ff00ff"/>
                </a:solidFill>
                <a:latin typeface="Verdana"/>
              </a:rPr>
              <a:t>6</a:t>
            </a:r>
            <a:r>
              <a:rPr b="1" lang="en-GB" sz="3200" spc="-1" strike="noStrike">
                <a:solidFill>
                  <a:srgbClr val="ff00ff"/>
                </a:solidFill>
                <a:latin typeface="Verdana"/>
              </a:rPr>
              <a:t>(BF</a:t>
            </a:r>
            <a:r>
              <a:rPr b="1" lang="en-GB" sz="3200" spc="-1" strike="noStrike" baseline="-25000">
                <a:solidFill>
                  <a:srgbClr val="ff00ff"/>
                </a:solidFill>
                <a:latin typeface="Verdana"/>
              </a:rPr>
              <a:t>4</a:t>
            </a:r>
            <a:r>
              <a:rPr b="1" lang="en-GB" sz="3200" spc="-1" strike="noStrike">
                <a:solidFill>
                  <a:srgbClr val="ff00ff"/>
                </a:solidFill>
                <a:latin typeface="Verdana"/>
              </a:rPr>
              <a:t>)]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[Co(C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11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9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]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agcobq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8485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04760" y="380880"/>
            <a:ext cx="6019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ractical application 5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1828800"/>
            <a:ext cx="662148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Verdana"/>
              </a:rPr>
              <a:t>[Co(C</a:t>
            </a:r>
            <a:r>
              <a:rPr b="1" lang="en-GB" sz="24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3333cc"/>
                </a:solidFill>
                <a:latin typeface="Verdana"/>
              </a:rPr>
              <a:t>B</a:t>
            </a:r>
            <a:r>
              <a:rPr b="1" lang="en-GB" sz="2400" spc="-1" strike="noStrike" baseline="-25000">
                <a:solidFill>
                  <a:srgbClr val="3333cc"/>
                </a:solidFill>
                <a:latin typeface="Verdana"/>
              </a:rPr>
              <a:t>9</a:t>
            </a:r>
            <a:r>
              <a:rPr b="1" lang="en-GB" sz="2400" spc="-1" strike="noStrike">
                <a:solidFill>
                  <a:srgbClr val="3333cc"/>
                </a:solidFill>
                <a:latin typeface="Verdana"/>
              </a:rPr>
              <a:t>H</a:t>
            </a:r>
            <a:r>
              <a:rPr b="1" lang="en-GB" sz="2400" spc="-1" strike="noStrike" baseline="-25000">
                <a:solidFill>
                  <a:srgbClr val="3333cc"/>
                </a:solidFill>
                <a:latin typeface="Verdana"/>
              </a:rPr>
              <a:t>11</a:t>
            </a:r>
            <a:r>
              <a:rPr b="1" lang="en-GB" sz="2400" spc="-1" strike="noStrike">
                <a:solidFill>
                  <a:srgbClr val="3333cc"/>
                </a:solidFill>
                <a:latin typeface="Verdana"/>
              </a:rPr>
              <a:t>)</a:t>
            </a:r>
            <a:r>
              <a:rPr b="1" lang="en-GB" sz="24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3333cc"/>
                </a:solidFill>
                <a:latin typeface="Verdana"/>
              </a:rPr>
              <a:t>]</a:t>
            </a:r>
            <a:r>
              <a:rPr b="1" lang="en-GB" sz="4800" spc="-1" strike="noStrike" baseline="25000">
                <a:solidFill>
                  <a:srgbClr val="3333cc"/>
                </a:solidFill>
                <a:latin typeface="Verdana"/>
              </a:rPr>
              <a:t>-</a:t>
            </a:r>
            <a:r>
              <a:rPr b="1" lang="en-GB" sz="2400" spc="-1" strike="noStrike">
                <a:solidFill>
                  <a:srgbClr val="3333cc"/>
                </a:solidFill>
                <a:latin typeface="Verdana"/>
              </a:rPr>
              <a:t> is a 3D-rigid a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Verdana"/>
              </a:rPr>
              <a:t>- can treat it as a rigid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3352680"/>
            <a:ext cx="76802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Can take model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 better version in the same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 better version from another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 calculated or optimised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 typical or average database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1219320"/>
            <a:ext cx="750420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160" y="38088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ractical application 5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590920"/>
            <a:ext cx="739152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FRAG  17   15.72  20.15 20.39 74.8 70.75 86.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Co      4   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x y z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C1      1   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x y z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C2      1   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x y z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B3      3   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x y z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B19    3  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 x y z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F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rst import the model into the INS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1143000"/>
            <a:ext cx="6476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520" y="38052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ractical application 5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9051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hen apply this model to your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2514600"/>
            <a:ext cx="838188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Verdana"/>
              </a:rPr>
              <a:t>AFIX  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  7  0.33250   0.76245   0.52909 11.000  0.0608 0.138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0.0396  -0.0183  -0.0212   0.015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1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1   0.37668   0.84367   0.54903  11.00000   0.1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  0.41382   0.84350   0.45796  11.00000   0.0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   0.31680   0.82455   0.43612  11.00000   0.1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19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3   0.20793   0.79538   0.51437  11.00000   0.1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Verdana"/>
              </a:rPr>
              <a:t>AFIX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1295280"/>
            <a:ext cx="6477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5943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ractical application 5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1981080"/>
            <a:ext cx="8153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Your model is idealised to the input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RAG ... FEND lines disappear in the RES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FIX 17 is replaced by a simple AFIX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sitional parameters reduced from 69 to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4495680"/>
            <a:ext cx="8381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he 3D matching requirements are rigor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he input model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must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be 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Check the refinement indicators for war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295280"/>
            <a:ext cx="647712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Could also be applied to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1295280"/>
            <a:ext cx="6477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SbF6" descr=""/>
          <p:cNvPicPr/>
          <p:nvPr/>
        </p:nvPicPr>
        <p:blipFill>
          <a:blip r:embed="rId1"/>
          <a:stretch/>
        </p:blipFill>
        <p:spPr>
          <a:xfrm>
            <a:off x="6172200" y="228600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166" name="PF6-COL" descr=""/>
          <p:cNvPicPr/>
          <p:nvPr/>
        </p:nvPicPr>
        <p:blipFill>
          <a:blip r:embed="rId2"/>
          <a:stretch/>
        </p:blipFill>
        <p:spPr>
          <a:xfrm>
            <a:off x="3352680" y="2286000"/>
            <a:ext cx="2289240" cy="2522520"/>
          </a:xfrm>
          <a:prstGeom prst="rect">
            <a:avLst/>
          </a:prstGeom>
          <a:ln w="0">
            <a:noFill/>
          </a:ln>
        </p:spPr>
      </p:pic>
      <p:pic>
        <p:nvPicPr>
          <p:cNvPr id="167" name="BF4-COL" descr=""/>
          <p:cNvPicPr/>
          <p:nvPr/>
        </p:nvPicPr>
        <p:blipFill>
          <a:blip r:embed="rId3"/>
          <a:stretch/>
        </p:blipFill>
        <p:spPr>
          <a:xfrm>
            <a:off x="609480" y="2286000"/>
            <a:ext cx="2070360" cy="25225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28600" y="5410080"/>
            <a:ext cx="8534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+ benzene solvent, phenyl ring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ther rigid anions, etc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Thanks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1981080"/>
            <a:ext cx="86104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University of Nottingh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verseas Conference F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oyal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leg Dolomanov, Neil Champnes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Martin Schröder, Claire Wil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1295280"/>
            <a:ext cx="647712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ff"/>
                </a:solidFill>
                <a:latin typeface="Verdana"/>
              </a:rPr>
              <a:t>Restraints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GB" sz="3200" spc="-1" strike="noStrike">
                <a:solidFill>
                  <a:srgbClr val="ff5050"/>
                </a:solidFill>
                <a:latin typeface="Verdana"/>
              </a:rPr>
              <a:t>constr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24382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3333ff"/>
                </a:solidFill>
                <a:latin typeface="Verdana"/>
              </a:rPr>
              <a:t>Restraints: formally, add extra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3200" y="4038480"/>
            <a:ext cx="61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050"/>
                </a:solidFill>
                <a:latin typeface="Wingdings"/>
                <a:ea typeface="Wingdings"/>
              </a:rPr>
              <a:t></a:t>
            </a:r>
            <a:r>
              <a:rPr b="1" lang="en-GB" sz="2400" spc="-1" strike="noStrike">
                <a:solidFill>
                  <a:srgbClr val="ff505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ff5050"/>
                </a:solidFill>
                <a:latin typeface="Verdana"/>
              </a:rPr>
              <a:t>Constraints: formally, fix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200400"/>
            <a:ext cx="80773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Verdana"/>
              </a:rPr>
              <a:t>Example: all B-F distances in BF</a:t>
            </a:r>
            <a:r>
              <a:rPr b="1" lang="en-GB" sz="2400" spc="-1" strike="noStrike" baseline="-25000">
                <a:solidFill>
                  <a:srgbClr val="3333ff"/>
                </a:solidFill>
                <a:latin typeface="Verdana"/>
              </a:rPr>
              <a:t>4</a:t>
            </a:r>
            <a:r>
              <a:rPr b="1" lang="en-GB" sz="2800" spc="-1" strike="noStrike" baseline="30000">
                <a:solidFill>
                  <a:srgbClr val="3333ff"/>
                </a:solidFill>
                <a:latin typeface="Verdana"/>
              </a:rPr>
              <a:t>-</a:t>
            </a:r>
            <a:r>
              <a:rPr b="1" lang="en-GB" sz="2400" spc="-1" strike="noStrike">
                <a:solidFill>
                  <a:srgbClr val="3333ff"/>
                </a:solidFill>
                <a:latin typeface="Verdana"/>
              </a:rPr>
              <a:t> are simi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93680" y="4876920"/>
            <a:ext cx="65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050"/>
                </a:solidFill>
                <a:latin typeface="Verdana"/>
              </a:rPr>
              <a:t>Example: atoms fixed on special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9480" y="5715000"/>
            <a:ext cx="677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he use of either must be justif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08160" y="1600200"/>
            <a:ext cx="677700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Th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2057400"/>
            <a:ext cx="46479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 range of hexanuclear supramolecular c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util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 ligand which is both blocking and chel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MultiL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2993760" cy="2878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666880" y="601992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Chem. Commun. 2003, pp. 682-6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1447920"/>
            <a:ext cx="6476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A hexanuclear cage</a:t>
            </a: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{</a:t>
            </a:r>
            <a:r>
              <a:rPr b="1" lang="en-GB" sz="3200" spc="-1" strike="noStrike">
                <a:solidFill>
                  <a:srgbClr val="ff00ff"/>
                </a:solidFill>
                <a:latin typeface="Verdana"/>
              </a:rPr>
              <a:t>[Cu</a:t>
            </a:r>
            <a:r>
              <a:rPr b="1" lang="en-GB" sz="3200" spc="-1" strike="noStrike" baseline="-25000">
                <a:solidFill>
                  <a:srgbClr val="ff00ff"/>
                </a:solidFill>
                <a:latin typeface="Verdana"/>
              </a:rPr>
              <a:t>6</a:t>
            </a:r>
            <a:r>
              <a:rPr b="1" lang="en-GB" sz="3200" spc="-1" strike="noStrike">
                <a:solidFill>
                  <a:srgbClr val="ff00ff"/>
                </a:solidFill>
                <a:latin typeface="Verdana"/>
              </a:rPr>
              <a:t>L</a:t>
            </a:r>
            <a:r>
              <a:rPr b="1" lang="en-GB" sz="3200" spc="-1" strike="noStrike" baseline="-25000">
                <a:solidFill>
                  <a:srgbClr val="ff00ff"/>
                </a:solidFill>
                <a:latin typeface="Verdana"/>
              </a:rPr>
              <a:t>6</a:t>
            </a:r>
            <a:r>
              <a:rPr b="1" lang="en-GB" sz="3200" spc="-1" strike="noStrike">
                <a:solidFill>
                  <a:srgbClr val="ff00ff"/>
                </a:solidFill>
                <a:latin typeface="Verdana"/>
              </a:rPr>
              <a:t>(BF</a:t>
            </a:r>
            <a:r>
              <a:rPr b="1" lang="en-GB" sz="3200" spc="-1" strike="noStrike" baseline="-25000">
                <a:solidFill>
                  <a:srgbClr val="ff00ff"/>
                </a:solidFill>
                <a:latin typeface="Verdana"/>
              </a:rPr>
              <a:t>4</a:t>
            </a:r>
            <a:r>
              <a:rPr b="1" lang="en-GB" sz="3200" spc="-1" strike="noStrike">
                <a:solidFill>
                  <a:srgbClr val="ff00ff"/>
                </a:solidFill>
                <a:latin typeface="Verdana"/>
              </a:rPr>
              <a:t>)]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(BF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figure1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52038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A hexanuclear cage {</a:t>
            </a:r>
            <a:r>
              <a:rPr b="1" lang="en-GB" sz="3200" spc="-1" strike="noStrike">
                <a:solidFill>
                  <a:srgbClr val="ff00ff"/>
                </a:solidFill>
                <a:latin typeface="Verdana"/>
              </a:rPr>
              <a:t>[Ag</a:t>
            </a:r>
            <a:r>
              <a:rPr b="1" lang="en-GB" sz="3200" spc="-1" strike="noStrike" baseline="-25000">
                <a:solidFill>
                  <a:srgbClr val="ff00ff"/>
                </a:solidFill>
                <a:latin typeface="Verdana"/>
              </a:rPr>
              <a:t>6</a:t>
            </a:r>
            <a:r>
              <a:rPr b="1" lang="en-GB" sz="3200" spc="-1" strike="noStrike">
                <a:solidFill>
                  <a:srgbClr val="ff00ff"/>
                </a:solidFill>
                <a:latin typeface="Verdana"/>
              </a:rPr>
              <a:t>L</a:t>
            </a:r>
            <a:r>
              <a:rPr b="1" lang="en-GB" sz="3200" spc="-1" strike="noStrike" baseline="-25000">
                <a:solidFill>
                  <a:srgbClr val="ff00ff"/>
                </a:solidFill>
                <a:latin typeface="Verdana"/>
              </a:rPr>
              <a:t>6</a:t>
            </a:r>
            <a:r>
              <a:rPr b="1" lang="en-GB" sz="3200" spc="-1" strike="noStrike">
                <a:solidFill>
                  <a:srgbClr val="ff00ff"/>
                </a:solidFill>
                <a:latin typeface="Verdana"/>
              </a:rPr>
              <a:t>(SbF</a:t>
            </a:r>
            <a:r>
              <a:rPr b="1" lang="en-GB" sz="3200" spc="-1" strike="noStrike" baseline="-25000">
                <a:solidFill>
                  <a:srgbClr val="ff00ff"/>
                </a:solidFill>
                <a:latin typeface="Verdana"/>
              </a:rPr>
              <a:t>6</a:t>
            </a:r>
            <a:r>
              <a:rPr b="1" lang="en-GB" sz="3200" spc="-1" strike="noStrike">
                <a:solidFill>
                  <a:srgbClr val="ff00ff"/>
                </a:solidFill>
                <a:latin typeface="Verdana"/>
              </a:rPr>
              <a:t>)]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(SbF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figure2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493416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A hexanuclear cage </a:t>
            </a:r>
            <a:r>
              <a:rPr b="1" lang="en-GB" sz="3200" spc="-1" strike="noStrike">
                <a:solidFill>
                  <a:srgbClr val="ff00ff"/>
                </a:solidFill>
                <a:latin typeface="Verdana"/>
              </a:rPr>
              <a:t>[Ag</a:t>
            </a:r>
            <a:r>
              <a:rPr b="1" lang="en-GB" sz="3200" spc="-1" strike="noStrike" baseline="-25000">
                <a:solidFill>
                  <a:srgbClr val="ff00ff"/>
                </a:solidFill>
                <a:latin typeface="Verdana"/>
              </a:rPr>
              <a:t>6</a:t>
            </a:r>
            <a:r>
              <a:rPr b="1" lang="en-GB" sz="3200" spc="-1" strike="noStrike">
                <a:solidFill>
                  <a:srgbClr val="ff00ff"/>
                </a:solidFill>
                <a:latin typeface="Verdana"/>
              </a:rPr>
              <a:t>L</a:t>
            </a:r>
            <a:r>
              <a:rPr b="1" lang="en-GB" sz="3200" spc="-1" strike="noStrike" baseline="-25000">
                <a:solidFill>
                  <a:srgbClr val="ff00ff"/>
                </a:solidFill>
                <a:latin typeface="Verdana"/>
              </a:rPr>
              <a:t>6</a:t>
            </a:r>
            <a:r>
              <a:rPr b="1" lang="en-GB" sz="3200" spc="-1" strike="noStrike">
                <a:solidFill>
                  <a:srgbClr val="ff00ff"/>
                </a:solidFill>
                <a:latin typeface="Verdana"/>
              </a:rPr>
              <a:t>(BF</a:t>
            </a:r>
            <a:r>
              <a:rPr b="1" lang="en-GB" sz="3200" spc="-1" strike="noStrike" baseline="-25000">
                <a:solidFill>
                  <a:srgbClr val="ff00ff"/>
                </a:solidFill>
                <a:latin typeface="Verdana"/>
              </a:rPr>
              <a:t>4</a:t>
            </a:r>
            <a:r>
              <a:rPr b="1" lang="en-GB" sz="3200" spc="-1" strike="noStrike">
                <a:solidFill>
                  <a:srgbClr val="ff00ff"/>
                </a:solidFill>
                <a:latin typeface="Verdana"/>
              </a:rPr>
              <a:t>)]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[Co(C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11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9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]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agcobq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62428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A dinuclear cation</a:t>
            </a:r>
            <a:r>
              <a:rPr b="1" lang="en-GB" sz="3200" spc="-1" strike="noStrike">
                <a:solidFill>
                  <a:srgbClr val="ff00ff"/>
                </a:solidFill>
                <a:latin typeface="Verdana"/>
              </a:rPr>
              <a:t> (AgL)</a:t>
            </a:r>
            <a:r>
              <a:rPr b="1" lang="en-GB" sz="3200" spc="-1" strike="noStrike" baseline="-25000">
                <a:solidFill>
                  <a:srgbClr val="ff00ff"/>
                </a:solidFill>
                <a:latin typeface="Verdana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[Co(C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11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9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]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figure3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4454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The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24382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Disorder in many an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5053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artial occupancy of some an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4572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Low resolution, low r/p rat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1600200"/>
            <a:ext cx="6476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5638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he (template) anions are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3T09:26:47Z</dcterms:created>
  <dc:creator>Blake</dc:creator>
  <dc:description/>
  <dc:language>en-US</dc:language>
  <cp:lastModifiedBy>Blake</cp:lastModifiedBy>
  <dcterms:modified xsi:type="dcterms:W3CDTF">2003-08-12T11:36:18Z</dcterms:modified>
  <cp:revision>160</cp:revision>
  <dc:subject/>
  <dc:title>PowerPoint Presentation</dc:title>
</cp:coreProperties>
</file>