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BCE-1942-4F54-9A90-F7E0DF10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DE0-5982-4BDE-B3CC-D33B2AC9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463-2C39-411D-A012-10EEC0C6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269-8260-4F36-B3FF-1E82C39E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EAF-75A0-47C2-A8A0-93672CF6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3A7-8580-40BF-A046-EA731D9E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697-80BE-42AD-AE03-3173304A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8AD-44E1-436A-B467-4093464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152-994A-42BA-A13A-701ED299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D62-BF50-4BA0-8723-228D038F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5AA-1EDF-43FF-840F-780654F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D7F-B859-4640-AA16-9AEF9F0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D324-CD1C-442E-A2AA-C5E768E41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DIRDIF - Fragment Searching to easily solve structures which direct methods w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bert Gould, Structural Biochemistry ICMB  University of Edinbur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really Paul Beurskens et al, University of Nijm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05320" y="2438280"/>
          <a:ext cx="209556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438280"/>
                    <a:ext cx="209556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00"/>
                </a:solidFill>
                <a:latin typeface="Times New Roman"/>
              </a:rPr>
              <a:t>Orient Test: CHNM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05740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a         b          c      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8.280  12.915  41.666  90  90.00 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imes New Roman"/>
              </a:rPr>
              <a:t>23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N  :   Z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124 atoms in asymmetric unit - strong hint of twin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ENT - the general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2089080"/>
          <a:ext cx="380988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89080"/>
                    <a:ext cx="380988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sharpened Patterson from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vector map from fra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 calculated map to achieve best overlap with Patt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NM13 Patt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ak  height     x       y       z   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 1397.  0.0000  0.0532  0.5000   20.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  1241.  0.2103  0.0000 -0.4999   20.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  1006.  0.0332  0.0000  0.0269    1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   865.  0.0009  0.0869  0.0140    1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   636.  0.0000  0.1872  0.0000    2.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   464.  0.0030  0.4896  0.2497   12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   457.  0.4502  0.2590 -0.0001    5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   389. -0.2460  0.4897  0.2496   12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    374.  0.2252  0.4884  0.2506   12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    350.  0.1415  0.0894  0.0390    2.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ENT - Matching the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RIEN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   A        B       C     I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216.40   69.40  199.80   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184.40   32.40  176.40   3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170.80   33.60  174.20   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 90.70   40.20   16.80   3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  346.40   71.40   87.60   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  145.20   61.40   27.60   2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(with Z’ = 2, at least two correct orientations are pres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RACOR - general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shift of oriented fragment relative to symmetry e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57913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OR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 2: origin not fixed i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urier is calculated i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pla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8.280, 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1.666 Å,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  90.0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 close 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ssible shift v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M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   912.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14858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00000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006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HNM13 – Results for 4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05520" y="4191120"/>
          <a:ext cx="2359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2359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2286000" cy="1973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029200" y="2057400"/>
            <a:ext cx="2057400" cy="188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990720" y="1981080"/>
            <a:ext cx="25146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NM13 – The end of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ment converged unconvincing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nned refinement with [100] as twin axis gave 60:40 composition for tw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is probably due to the ability to the Fourier expansion to delete the weaker component on geometrical gr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DIF - The Real 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.T. Beurskens, G. Beurskens, R de Gelder, S. Garcia-Granda, R. Gould &amp; J.M.M Smits, Crystallography Laboratory, the University of Nijme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ndows realisation by Louis Ferrugia, The University of Glasg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from Simon Parsons, The University of Edinbur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85680" y="1981080"/>
            <a:ext cx="32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DIF - the general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ATTY Example: Rh(C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){B(C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)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}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828800"/>
            <a:ext cx="687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057400"/>
            <a:ext cx="731520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 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618 Å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;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4  ;  data po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ed compound: Cd(Br){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 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337 Å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;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 ;  data very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ut not, of course, known about until later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tterson 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h(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){B(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)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000.  0.0000  0.0000  0.0000 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   2762.  0.0402 -0.1273 -0.4576    8.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   1774.  0.2821  0.3041 -0.1894    6.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4   1134. -0.3419 -0.4948  0.1759    8.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5   1084.  0.2122  0.3148 -0.0738    4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   1074.  0.0587  0.1962  0.0148    2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7   1036. -0.2006  0.0525 -0.0485    2.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   1035.  0.4790  0.2530 -0.1397    7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9   1015. -0.0707  0.0107  0.1178    2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    920.  0.2423  0.4265  0.2664    6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h(C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{B(C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)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981080"/>
          <a:ext cx="3335400" cy="324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33354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48320" y="1905120"/>
          <a:ext cx="3381120" cy="331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33811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14300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DIF   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ined     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18DEN : Patt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2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0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;  P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c:  V = 38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Å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:   Z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ak height   x       y       z     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   6000.  0.0000  0.0000  0.0000 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    461.  0.0000  0.2053  0.5000    8.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    416.  0.0000  0.1524  0.5000    8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4    390.  0.0000  0.3350  0.5000   10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5    367.  0.1657  0.1813  0.2520    5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    367.  0.0000  0.0373  0.5000    8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7    363. -0.1338  0.0346  0.2463    5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    348.  0.0584  0.0000  0.0681    1.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9    343.  0.2914  0.0000  0.0219    5.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    338.  0.0320  0.5000  0.1696    9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18DEN: Patterson solution and final refin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1    0.000  0.000  0.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2    0.002 -0.003  0.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3    0.000  0.000  0.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4   -0.001 -0.001  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5   -0.002  0.001  0.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6    0.000  0.000  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7   -0.001  0.005  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8    0.002 -0.005  0.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9 (not found in Patter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18DEN - DIRDIF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76520" y="1676520"/>
          <a:ext cx="5943600" cy="40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94360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09:34:21Z</dcterms:created>
  <dc:creator>Robert Gould</dc:creator>
  <dc:description/>
  <dc:language>en-US</dc:language>
  <cp:lastModifiedBy>Robert Gould</cp:lastModifiedBy>
  <dcterms:modified xsi:type="dcterms:W3CDTF">2003-08-16T22:02:27Z</dcterms:modified>
  <cp:revision>12</cp:revision>
  <dc:subject/>
  <dc:title>An exceptionally stable peptide nanotube system with flexible pores</dc:title>
</cp:coreProperties>
</file>