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409-7DA4-47A1-A307-466306CF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8A2-106F-44FD-923B-7E357D19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4C4-D45C-4B44-A391-575A49DD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F16-076A-4ED7-9B4F-C669BD49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DF1-9286-4266-AF82-40057B66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7B8-C302-491A-ACED-D8CC0124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85A-E8D4-4F15-A15C-901F20EF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49B-EE4E-43E9-AA95-7741ABAA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849-F669-4779-9ADF-0FB8C5DF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5BA-C141-424D-BF57-914396E4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A44-A5B1-4320-9AFC-9057899C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7CE-B6AB-4BB9-B91E-09C1E2AF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1F52-1F3B-486F-B632-B8B6B9C6676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C7DE-8047-48FC-AB6B-F9D071A88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920" y="4343400"/>
            <a:ext cx="3962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Louis J. Farrug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epartment of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University of Glasg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GLASGOW G12 8Q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Scot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46640" y="1600200"/>
            <a:ext cx="4187880" cy="480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of Bruker &amp; Nonius CC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196380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38280" y="16002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av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470560" cy="4365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19920" y="1752480"/>
            <a:ext cx="2835000" cy="405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ortav by R. Bl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e-correction with GAUSSIAN abs. c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pply frame/batch sc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pply empirical absorption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ta merging &amp; reject out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6248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heck that parameters are correct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av GUI - Empirical absor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1752480"/>
            <a:ext cx="2835000" cy="436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quires sufficient data redund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s spherical harmonics to model absorption anisotr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dd harmonics used to model non-centrosymmetric systematic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dependency also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6248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. H. Blessing, </a:t>
            </a:r>
            <a:r>
              <a:rPr b="0" i="1" lang="en-US" sz="2000" spc="-1" strike="noStrike">
                <a:solidFill>
                  <a:srgbClr val="cc00cc"/>
                </a:solidFill>
                <a:latin typeface="Arial"/>
              </a:rPr>
              <a:t>Acta Crystallogr., Sect A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 1995, 51, 33-38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45616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av GUI - Mer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1752480"/>
            <a:ext cx="2835000" cy="344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veral schemes for outlier re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rmally use Tukey downweighting and rejection of out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utoreject Outlier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ntil no further ones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248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. H. Blessing, </a:t>
            </a:r>
            <a:r>
              <a:rPr b="0" i="1" lang="en-US" sz="2000" spc="-1" strike="noStrike">
                <a:solidFill>
                  <a:srgbClr val="cc00cc"/>
                </a:solidFill>
                <a:latin typeface="Arial"/>
              </a:rPr>
              <a:t>J Apply Cryst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 1997, 30, 421-42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12840" y="1768320"/>
            <a:ext cx="547848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av GUI -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1752480"/>
            <a:ext cx="2835000" cy="253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ave intermediate result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trols number of plots and verbosity of out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move unwanted 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6248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. H. Blessing, </a:t>
            </a:r>
            <a:r>
              <a:rPr b="0" i="1" lang="en-US" sz="2000" spc="-1" strike="noStrike">
                <a:solidFill>
                  <a:srgbClr val="cc00cc"/>
                </a:solidFill>
                <a:latin typeface="Arial"/>
              </a:rPr>
              <a:t>J Apply Cryst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 1997, 30, 421-42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6880" y="1774800"/>
            <a:ext cx="546444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av GUI -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1752480"/>
            <a:ext cx="283500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hows outliers and rejected ref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hown missing ref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6248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. H. Blessing, </a:t>
            </a:r>
            <a:r>
              <a:rPr b="0" i="1" lang="en-US" sz="2000" spc="-1" strike="noStrike">
                <a:solidFill>
                  <a:srgbClr val="cc00cc"/>
                </a:solidFill>
                <a:latin typeface="Arial"/>
              </a:rPr>
              <a:t>J Apply Cryst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 1997, 30, 421-42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1768320"/>
            <a:ext cx="550224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of SMART/SAI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5791320" cy="4545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80040" y="1641600"/>
            <a:ext cx="2835360" cy="436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ads in all .RAW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und in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ovides ranges of Intensities, exposure time, frame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ecessary to provide  batch numbers for sca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 this example, files should be processed in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fou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ba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of SMART/SAI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1752480"/>
            <a:ext cx="342900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hoose which sets of 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les to concate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4117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of SMART/SAI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1752480"/>
            <a:ext cx="3429000" cy="375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hoose which sets of 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les to concate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cide on way to derive batch numbers for sc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rite file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concat_hkl.sort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hich is exact translation of the data in RAW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uitable for merging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with Sort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3560" y="1676520"/>
            <a:ext cx="4113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of Bruker &amp; Nonius CC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2240" y="1687680"/>
            <a:ext cx="61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re are two main stages of CCD data processing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184560"/>
            <a:ext cx="8382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rst procedure is specialised, involves many corrections to the raw CCD data - no facilities in WinGX for this (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nzo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valCCD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AIN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cond procedure is handled in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WinGX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by a variety of 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rame integration relies on “black box” commercial softw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4600" y="21938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rame integration - extraction of intensities from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ost processing - error modelling, merging, abs corrections,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685800"/>
          <a:ext cx="8763120" cy="60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763120" cy="60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zox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6765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nzox was written by Bob Blessing, but extensively modified in Glasg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362320"/>
            <a:ext cx="8534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ads .x files produced by Denzo and concatenate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little massaging of reflection inten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ransfers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full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transparently - no change in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mple statistical summation of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partial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to provide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ome rejection criteria -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of fit, partials at edge of scan set, sin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lculates direction cos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-indexing for equivalent orientation matrices (NOT re-orientation 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rious possibilities for batch number - frame, scan-set,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utput file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denzox_hkl.sortav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for Sortav (or Gaussian abs corr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utput file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denzox.sa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r Sad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685800"/>
          <a:ext cx="8763120" cy="60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763120" cy="60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of KappaCC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280" y="2057400"/>
          <a:ext cx="8915400" cy="26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57400"/>
                    <a:ext cx="891540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of KappaCC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608120"/>
            <a:ext cx="5486400" cy="441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61563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st data reduction programs handled through KappaCCD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1600200"/>
            <a:ext cx="3124440" cy="436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oad cell from various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lter data by sin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or batch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ick view of data quality by Weiss or Diederich - Karplus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atenation of input 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lots (Sorta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of KappaCC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61563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st data reduction programs handled through KappaCCD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1600200"/>
            <a:ext cx="3124440" cy="436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oad cell from various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lter data by sin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or batch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ick view of data quality by Weiss or Diederich - Karplus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atenation of input 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lots (Sorta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592280"/>
            <a:ext cx="52578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ingle Crystal Software Workshop              ECM2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762120"/>
            <a:ext cx="8381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zox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5867640" cy="4711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72200" y="1676520"/>
            <a:ext cx="2835360" cy="466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nzox by R. Bl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ads .x file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lculates direction cosines + batch no.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rites ou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denzox_hkl.sort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denzox.s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ads .x files from disk files or CD-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llows for Denzo matrix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5T16:20:44Z</dcterms:created>
  <dc:creator>L. Farrugia</dc:creator>
  <dc:description/>
  <dc:language>en-US</dc:language>
  <cp:lastModifiedBy>Louis Farrugia</cp:lastModifiedBy>
  <cp:lastPrinted>2002-06-25T11:38:44Z</cp:lastPrinted>
  <dcterms:modified xsi:type="dcterms:W3CDTF">2003-08-19T13:51:31Z</dcterms:modified>
  <cp:revision>94</cp:revision>
  <dc:subject/>
  <dc:title>WinGX Program System</dc:title>
</cp:coreProperties>
</file>