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E289-E3E5-4CC8-B956-65BE5214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66A9-3FAE-451F-9C5B-A7D3F9AD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0C40-DF4F-4BC2-A9E0-A6CF44CD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4F8-8267-4F70-9AE8-529AA7FA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C0FF-BBB5-4733-AF60-57D7E7BC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3F47-2B69-49CB-B71F-B364AA01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C0D6-5971-44BA-896B-1D58052C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F468-B131-4A58-BE18-1CCCC140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53AC-8A5D-4482-8B4C-BBF1C40D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87BA-5388-4A12-8E27-EB1E9C5E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3C8C-7E48-494E-A4CA-FE369357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95D5-0F70-4F3C-B664-20A94004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E5B9-91DC-4074-860C-A82D07B05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197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Powder Indexing of Large Volume Unit Cells (including protein data) using Crysf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obin Shir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00"/>
                </a:solidFill>
                <a:latin typeface="Times New Roman"/>
              </a:rPr>
              <a:t>School of Human 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00"/>
                </a:solidFill>
                <a:latin typeface="Times New Roman"/>
              </a:rPr>
              <a:t>University of Surr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00"/>
                </a:solidFill>
                <a:latin typeface="Times New Roman"/>
              </a:rPr>
              <a:t>Guildford, 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ssion 1b, Single Crystal and Powder Diffraction Software Workshop, ECM-21, Durban, South A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4 August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gures of merit discussed so far all depend on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ms of discrepanc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the differences between observed and calculated line pos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they report the averag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sf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observations and model, and can be severely degraded by any non-model features such as impurity l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s of merit can also be based on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oint prob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getting the observed level of fit across the patt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new joint-probability figures of meri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provided in the new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m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gram in Crysfire 200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ike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yle figures of merit, these depend mainly on the regions th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ll with that model, and are largely transparent to badly-fitting features like impurity l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ore about joint-probability methods, come to the indexing microsymposium on Thursday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Joint-Probability Figures of Merit (Pr, I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can specify 6 values for the cell constants (three sides and three angles), we will have fixed the unit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n that sense, indexing implies finding a point with a high figure of merit in a 6-dimensional “solution spac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step-scan across this space, making a visual map of its landscape of high and low values of M (or Pr / Ir), which is what Mmap (or Hmap) do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xt slide shows such a topographical map for a section through the solution space of an organic-metallic dyestuff, to give some idea of what they can look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eak in the map corresponds to a relatively high figure of merit, and hence a possible trial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untaineering in indexing’s solution-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447560" y="556272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CenturySchlb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1 surface in the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.e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) section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u phthalocyanine (from Powder4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8000" t="3262" r="6000" b="9786"/>
          <a:stretch/>
        </p:blipFill>
        <p:spPr>
          <a:xfrm>
            <a:off x="990720" y="533520"/>
            <a:ext cx="7238880" cy="478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ere are we now? - Crysfire 2002, Crysfire 2003 and Industrial Crys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rrent distribution is still Crysfire 2002, but what I’m demonstrating here is Crysfire 2003, to be released very shortly in 16-bit and 32-bit versions (yes, 32-bit at last, though not yet GUI-based!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(or will be) available free for non-profit use (and inexpensively for industrial use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’re aimed at making life easier for non-specialists in indexing (with some crystallographic knowled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 Crysfire will be a graphical 32-bit version, more automated and aimed to be usable by technicians, who are not necessarily crystallographers.  Hopefully it will be released early next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“Buyer’s Guide”:  Some characteristics of the Indexing Programs now supported by Crys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752480"/>
            <a:ext cx="8839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>
              <a:tabLst>
                <a:tab algn="l" pos="0"/>
                <a:tab algn="l" pos="2400480"/>
                <a:tab algn="l" pos="354960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olerates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2400480"/>
                <a:tab algn="l" pos="354960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gra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mpuritie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rror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spcBef>
                <a:spcPts val="249"/>
              </a:spcBef>
              <a:tabLst>
                <a:tab algn="l" pos="0"/>
                <a:tab algn="l" pos="2400480"/>
                <a:tab algn="l" pos="354960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o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ised for low-sym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spcBef>
                <a:spcPts val="249"/>
              </a:spcBef>
              <a:tabLst>
                <a:tab algn="l" pos="0"/>
                <a:tab algn="l" pos="2400480"/>
                <a:tab algn="l" pos="354960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jzn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for Ito12, but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more rob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spcBef>
                <a:spcPts val="249"/>
              </a:spcBef>
              <a:tabLst>
                <a:tab algn="l" pos="0"/>
                <a:tab algn="l" pos="2400480"/>
                <a:tab algn="l" pos="354960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cvol9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Good for screening to orthor./mon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spcBef>
                <a:spcPts val="249"/>
              </a:spcBef>
              <a:tabLst>
                <a:tab algn="l" pos="0"/>
                <a:tab algn="l" pos="2400480"/>
                <a:tab algn="l" pos="354960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z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Best for dominant-zone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spcBef>
                <a:spcPts val="249"/>
              </a:spcBef>
              <a:tabLst>
                <a:tab algn="l" pos="0"/>
                <a:tab algn="l" pos="2400480"/>
                <a:tab algn="l" pos="354960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-guided,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faster than Lz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spcBef>
                <a:spcPts val="249"/>
              </a:spcBef>
              <a:tabLst>
                <a:tab algn="l" pos="0"/>
                <a:tab algn="l" pos="2400480"/>
                <a:tab algn="l" pos="354960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or9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ises in v accurate impur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spcBef>
                <a:spcPts val="249"/>
              </a:spcBef>
              <a:tabLst>
                <a:tab algn="l" pos="0"/>
                <a:tab algn="l" pos="2400480"/>
                <a:tab algn="l" pos="354960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hl [=TMO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st, useful for high &amp; low sym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spcBef>
                <a:spcPts val="249"/>
              </a:spcBef>
              <a:tabLst>
                <a:tab algn="l" pos="0"/>
                <a:tab algn="l" pos="2400480"/>
                <a:tab algn="l" pos="354960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up [=Powder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Slo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Good for screening down to orth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spcBef>
                <a:spcPts val="751"/>
              </a:spcBef>
              <a:tabLst>
                <a:tab algn="l" pos="0"/>
                <a:tab algn="l" pos="2400480"/>
                <a:tab algn="l" pos="354960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m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visual maps of solution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spcBef>
                <a:spcPts val="751"/>
              </a:spcBef>
              <a:tabLst>
                <a:tab algn="l" pos="0"/>
                <a:tab algn="l" pos="2400480"/>
                <a:tab algn="l" pos="354960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m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Yes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 visual joint-probability m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spcBef>
                <a:spcPts val="751"/>
              </a:spcBef>
              <a:tabLst>
                <a:tab algn="l" pos="0"/>
                <a:tab algn="l" pos="2400480"/>
                <a:tab algn="l" pos="354960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cMail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Slows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ly to need overnight ru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ow Much does Cell Volume Matter?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Can one index a protein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391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ly the indexing problem is scale independent:        it uses only relative dimensions and is unchanged if the d-spacings and wavelength are both doubl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hy do large cells make indexing har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indexing is scale-independent, instrument resolution and accuracy are not, so if the d-spacings are  10 times bigger, the data must be 10 time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, classic programs like Ito &amp; Treor were optimised for moderate cell volumes (i.e. below c.5000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von Dreele has indexed several protein patterns, at least in high symmetry (and solved their struc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sfire includes re-scaling to support this, as we’ll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57080"/>
                <a:tab algn="l" pos="123984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 Working with High Volume Datasets &gt;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ysfire: SC comm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roving data via self-calibration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ysfire: Indexing a Protein</a:t>
            </a:r>
            <a:br>
              <a:rPr sz="3200"/>
            </a:b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ekcell: LePage / Best Solu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eking a higher-symmetry cel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Demonstr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wder-indexing problem is now well understood (though not always solved, especially if you don’t use the right tool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powerful indexing programs available and becoming more widely used (more in the pipeline - watch this spac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sfire offers easy access to 9 of them (from next month, Crysfire 2003 will make that 1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sfire’s strength lies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ial cells, not in establishing their best description and symme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job is best done as a separate stage, using the graphical helper program, Chek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sfire and Chekcell are complementary, and if used together are likely to offer the quickest route to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protein data can now be indexed (given very good dat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tributing Authors: Crysfire &amp; Chek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9250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57080"/>
                <a:tab algn="l" pos="456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sfire:  Overall system + Mmap, Hmap, Lzon, Losh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57080"/>
                <a:tab algn="l" pos="456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in Shir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57080"/>
                <a:tab algn="l" pos="456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ibuted crystallographic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57080"/>
                <a:tab algn="l" pos="456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z Kohlbe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hl [=TM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57080"/>
                <a:tab algn="l" pos="456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el Le Ba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Ma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57080"/>
                <a:tab algn="l" pos="456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iel Louë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vol, Losh, Lz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57080"/>
                <a:tab algn="l" pos="456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 Spek &amp; A. Meets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57080"/>
                <a:tab algn="l" pos="456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iel Taup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up [=Powde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57080"/>
                <a:tab algn="l" pos="456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ie van der L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2cr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57080"/>
                <a:tab algn="l" pos="456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 Viss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o, Fjzn, Lzon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57080"/>
                <a:tab algn="l" pos="456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-Eric Wer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57080"/>
                <a:tab algn="l" pos="456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k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57080"/>
                <a:tab algn="l" pos="456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an Laugier &amp; Bernard Boc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 Discussion 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owder indexing and why is it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sfire 2003 indexing example (high-quality lab dat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ing with Crysfire and Chek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s of merit - classic and joint-prob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ntaineering in indexing’s solution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sfire 2002, Crysfire 2003 (and Industrial Crysfir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“buyer’s guide” for indexing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does cell volume matter?  Can one index a prote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sfire 2003 protein example (Zn Insuli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calibration for 2Theta zero err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caling and indexing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-group and higher symmetry: Chek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s and acknowledg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assification of Index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914400"/>
            <a:ext cx="88390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347920"/>
                <a:tab algn="l" pos="3652920"/>
                <a:tab algn="l" pos="4919760"/>
                <a:tab algn="l" pos="651024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pac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haustiv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atu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gram(s)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2347920"/>
                <a:tab algn="l" pos="3652920"/>
                <a:tab algn="l" pos="4919760"/>
                <a:tab algn="l" pos="651024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47920"/>
                <a:tab algn="l" pos="3652920"/>
                <a:tab algn="l" pos="4919760"/>
                <a:tab algn="l" pos="651024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one index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47920"/>
                <a:tab algn="l" pos="3652920"/>
                <a:tab algn="l" pos="4919760"/>
                <a:tab algn="l" pos="651024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cessive dichotom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(semi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 (2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47920"/>
                <a:tab algn="l" pos="3652920"/>
                <a:tab algn="l" pos="4919760"/>
                <a:tab algn="l" pos="651024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sear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i-ma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47920"/>
                <a:tab algn="l" pos="3652920"/>
                <a:tab algn="l" pos="4919760"/>
                <a:tab algn="l" pos="651024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d heuris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47920"/>
                <a:tab algn="l" pos="3652920"/>
                <a:tab algn="l" pos="4919760"/>
                <a:tab algn="l" pos="651024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int prob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47920"/>
                <a:tab algn="l" pos="3652920"/>
                <a:tab algn="l" pos="4919760"/>
                <a:tab algn="l" pos="651024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47920"/>
                <a:tab algn="l" pos="3652920"/>
                <a:tab algn="l" pos="4919760"/>
                <a:tab algn="l" pos="651024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te Carl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i-matu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47920"/>
                <a:tab algn="l" pos="3652920"/>
                <a:tab algn="l" pos="4919760"/>
                <a:tab algn="l" pos="651024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ed anneal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t yet tr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47920"/>
                <a:tab algn="l" pos="3652920"/>
                <a:tab algn="l" pos="4919760"/>
                <a:tab algn="l" pos="651024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usion equ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t yet tr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47920"/>
                <a:tab algn="l" pos="3652920"/>
                <a:tab algn="l" pos="4919760"/>
                <a:tab algn="l" pos="651024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n/covari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. (both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onoc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i-matu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47920"/>
                <a:tab algn="l" pos="3652920"/>
                <a:tab algn="l" pos="4919760"/>
                <a:tab algn="l" pos="651024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 heuris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47920"/>
                <a:tab algn="l" pos="3652920"/>
                <a:tab algn="l" pos="4919760"/>
                <a:tab algn="l" pos="651024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 permut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2347920"/>
                <a:tab algn="l" pos="3652920"/>
                <a:tab algn="l" pos="4919760"/>
                <a:tab algn="l" pos="651024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47920"/>
                <a:tab algn="l" pos="3652920"/>
                <a:tab algn="l" pos="4919760"/>
                <a:tab algn="l" pos="651024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he list is not claimed to be complete.  Only symmetry-general methods includ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ethods vs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685800"/>
            <a:ext cx="86104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487520"/>
                <a:tab algn="l" pos="417528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pac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grams using thi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87520"/>
                <a:tab algn="l" pos="417528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487520"/>
                <a:tab algn="l" pos="417528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one index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Times New Roman"/>
              </a:rPr>
              <a:t>ITO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Times New Roman"/>
              </a:rPr>
              <a:t>FJZN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487520"/>
                <a:tab algn="l" pos="417528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cessive dichotom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Times New Roman"/>
              </a:rPr>
              <a:t>DICVOL9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X-Cell,[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Times New Roman"/>
              </a:rPr>
              <a:t>LZ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Times New Roman"/>
              </a:rPr>
              <a:t>LOS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487520"/>
                <a:tab algn="l" pos="417528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sear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NIX, Mmap, Hmap, (Powder4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487520"/>
                <a:tab algn="l" pos="417528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d heuris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Times New Roman"/>
              </a:rPr>
              <a:t>LZ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Times New Roman"/>
              </a:rPr>
              <a:t>LOS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Times New Roman"/>
              </a:rPr>
              <a:t>Mm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Times New Roman"/>
              </a:rPr>
              <a:t>H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487520"/>
                <a:tab algn="l" pos="417528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int prob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Times New Roman"/>
              </a:rPr>
              <a:t>H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487520"/>
                <a:tab algn="l" pos="417528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X, (W.P.G.A.: Harris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487520"/>
                <a:tab algn="l" pos="417528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te Carl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Times New Roman"/>
              </a:rPr>
              <a:t>McMail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VD-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487520"/>
                <a:tab algn="l" pos="417528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ed anneal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t yet implemen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487520"/>
                <a:tab algn="l" pos="417528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usion equ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t yet implemen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487520"/>
                <a:tab algn="l" pos="417528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ile-bas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Times New Roman"/>
              </a:rPr>
              <a:t>McMail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dealised), (W.P.G.A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487520"/>
                <a:tab algn="l" pos="417528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. (both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n/covari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LECH/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487520"/>
                <a:tab algn="l" pos="417528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 heuris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Times New Roman"/>
              </a:rPr>
              <a:t>TREOR9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MO [=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Times New Roman"/>
              </a:rPr>
              <a:t>KOH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487520"/>
                <a:tab algn="l" pos="417528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 permut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DER [=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Times New Roman"/>
              </a:rPr>
              <a:t>TA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487520"/>
                <a:tab algn="l" pos="417528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Underlin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upported by Crysfire, in round brackets if not generally avail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dexing Programs: 1)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685800"/>
            <a:ext cx="88390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gram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uthor(s)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ethod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pace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xh.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O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TO1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se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one inde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S +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JZN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ser &amp; Shirle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one inde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CVOL9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uë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chotom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S +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-Ce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uman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chotom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NIX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zkowic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id se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S/AN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owder49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rle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id se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m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Z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rley/Louër/Viss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. heur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m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OS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rley &amp; Louë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. heur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m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map, Hma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rle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. heur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m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S,W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lokazo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tic alg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S/ext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cMail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 Bai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te Carl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VD-Inde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elh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te Carl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.P.G.A.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is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tic alg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LECH/INDE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rgman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n/covar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/(I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S,Win,L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EOR9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rn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 heur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S +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MO [=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KOH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ohlbe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 heur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S +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DER [=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AU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  Taup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 perm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S +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1944720"/>
                <a:tab algn="l" pos="4175280"/>
                <a:tab algn="l" pos="5597640"/>
                <a:tab algn="l" pos="6342120"/>
                <a:tab algn="l" pos="720252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Underlined if supported by Crysfire, in round brackets if not generally avail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dexing Programs: 2) Performance (1GHz Penti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685800"/>
            <a:ext cx="88390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gram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Orthor.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onocl.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ricl.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TO1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se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se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se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Auto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JZN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se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se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se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Auto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CVOL9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3 se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-30 m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ins-hou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Auto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v. vol.-depen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-Ce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ble: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inutes-hou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Auto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NIX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5 m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?5 min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.a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guided in monoc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owder49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5 min in each ca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C Equiv.), user gui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Z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 sec - 5 min in each ca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Auto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OS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30 se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lt;30 se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lt;30 se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gui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map, Hma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sec - 15 min in each ca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gui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15 se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5 m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30 m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mi-auto. in practi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cMail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ble: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hours in black box mo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Auto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VD-Inde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ble: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inutes-hou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Auto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.P.G.A.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 times said to be length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lpha / SGI workstn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LECH/INDE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m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m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m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Auto,  Exh. to monoc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EOR9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lt;30 se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lt;30 se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lt;30 se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Auto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MO [=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KOH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lt;30 se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lt;30 se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lt;30 se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Auto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DER [=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AU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5 se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min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Very lo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Auto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2282760"/>
                <a:tab algn="l" pos="3314880"/>
                <a:tab algn="l" pos="451476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ypical run times as a rough guide, but may vary considerably with data &amp; settin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dexing Programs: 3) Tolerance of impurities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457200"/>
            <a:ext cx="88390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olerates: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an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gram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mpurities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rrors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TO1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sed for low-sym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JZN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for ITO12, but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more robu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CVOL9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Good for screening to orthor./mono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-Ce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ercial package (Accelry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NIX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der development, user gui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owder49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b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erseded by L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Z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Best for dominant-zone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OS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-guided,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faster than L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ma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b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-guided,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good for dominant z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a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Yes, ve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-guided,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good for dominant zon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UTO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optional user 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cMail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Uses idealised whole 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VD-Inde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ercial package (Bruk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.P.G.A.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Uses whole pro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develo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LECH/INDE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s full peak-fit covariance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EOR9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Specialises in v accurate impur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MO [=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KOH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st, useful for high &amp; low sym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DER [=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AU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s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Good for screening down to orth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2230560"/>
                <a:tab algn="l" pos="3484440"/>
                <a:tab algn="l" pos="4802040"/>
                <a:tab algn="l" pos="5950080"/>
                <a:tab algn="l" pos="7372440"/>
                <a:tab algn="l" pos="8034480"/>
                <a:tab algn="l" pos="9182160"/>
                <a:tab algn="l" pos="10329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ough nominally automatic, in practice AUTOX often needs some user guida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 is powder indexing and why is it nee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905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you can get started on an ab initio pow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ructure, you need to know the uni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the intensity from each profile point can’t be located in reciprocal space, and progress is im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ring the unit cell from the limited and partly overlapping and degraded information in a powder pattern is called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owder index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r auto-indexin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complex process of induction that’s far beyond manual methods in all but the easiest c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904760" y="1981080"/>
            <a:ext cx="5257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haps more than for any other aspect of powder diffra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ccess in powder indexing depends critically on the resolution and accuracy of one’s observed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though there are tools for correcting data with systematic errors                (self-calibration example to follow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143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ata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dexing? - No problem, we just use program ... [fill in your lab’s preference]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905120"/>
            <a:ext cx="7925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oes that always work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no - sometimes it doesn’t come out, so we drop that problem and move on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ing can be harder than actually solving the stru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seem an all-or-nothing process, that either comes out painlessly or with much effort, if at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specially if you only have one tool in your toolbox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types of pattern can need different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ning Dicvol (or Treor) on a problem that needs Lzon (or Kohl) is like trying to hammer in a nail with a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 A first look at Crysfire 2003 &amp; Chekcell&gt;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exing a low-volume monoclinic lab dataset using programs in combination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Demonstr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30800" y="266868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Crysfi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s from powder line positions (2Thetas or d-spacings) and returns with a list of plausible trial cells, sorted by number of lines indexed and figure of mer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t should have done the really hard work of pinning down the solution to somewhere specific in solution sp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work is finished when it has provided a list that contains the correct cell in some form (or a derivative cell of i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 solutions may be in unhelpful settings or expressed in too-low symmetry, and not say much about space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Chek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graphical toolkit that can help the user to identify the best crystal system and set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narrow the symmetry to a few specific spacegroups for each trial solution, and do an extended Le Page search for derivative sub- and super-cells (for one trial solution at a tim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dexing with Crysfire + Chek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1760" y="1142640"/>
            <a:ext cx="7543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ummari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Crysfi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heavy stuff that you couldn’t think of doing by hand, but doesn’t stop to polish its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Chek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graphical tools to help with the polishing job, which in principle you could do by hand, but this way is much easier an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dexing with Crysfire + Chekcell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ing figures of merit (M) are roughly the inverse of R-factors, but based on differences in obs and calc Q [=1/dsq] rather than in intens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programs define M somewhat differently, but that isn’t usually important - M is too sensitive to tiny changes in cell constant for minor differences to be signific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t’s worth noting th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urrent program actually uses De Wolff’s original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finition for its M (though they often call i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because its handling of “unindexed” lines would be too cumbers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MHO) The best-conditioned and most conservative M is M1, as used by Crysfire’s CA and MM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sfire simply records whatever each program repo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assic Figures of Merit (“M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0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”,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8T01:46:54Z</dcterms:created>
  <dc:creator>Littlejym</dc:creator>
  <dc:description/>
  <dc:language>en-US</dc:language>
  <cp:lastModifiedBy>Littlejym</cp:lastModifiedBy>
  <cp:lastPrinted>2003-08-18T09:03:28Z</cp:lastPrinted>
  <dcterms:modified xsi:type="dcterms:W3CDTF">2003-08-18T17:00:47Z</dcterms:modified>
  <cp:revision>151</cp:revision>
  <dc:subject/>
  <dc:title>Progress in Automatic Powder Indexing</dc:title>
</cp:coreProperties>
</file>